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056-37EC-4A7A-B07C-9F766763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684-8B92-4E17-BDC6-802E09B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470-8AD3-4F3E-8F25-DB6F1A2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BCE-B19C-4DE2-B7A0-D46F1B53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7A5-396E-4F24-B2EA-8FE0789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BB8-DD22-4B8F-A075-CCAD6CB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DFE-9D08-4AAB-B469-FA4B5AE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95B-4527-4D18-B142-13E3F9B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BBB-1699-4131-88C6-8D4395A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49D-A322-4AF4-A4B4-5C88557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D0D-B0C5-4412-9521-F873815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ED5-ECBE-49E7-ACCF-E0F4CDE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297000" indent="-297000">
              <a:spcBef>
                <a:spcPts val="26"/>
              </a:spcBef>
              <a:buClr>
                <a:srgbClr val="000022"/>
              </a:buClr>
              <a:buSzPct val="25000"/>
              <a:buFont typeface="Wingding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8DE-2C5A-4EE6-B934-022039E2F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10E-34D8-4365-886F-D75BAD340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4142-30B6-4748-BB6B-F3EA3706F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7452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cf"/>
                </a:solidFill>
                <a:latin typeface="Calibri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2004-2021Aspose Pty L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with Aspose.Slides for .NET 4.0 Client Profile 21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7452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cf"/>
                </a:solidFill>
                <a:latin typeface="Calibri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2004-2021Aspose Pty L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with Aspose.Slides for .NET 4.0 Client Profile 21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7452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cf"/>
                </a:solidFill>
                <a:latin typeface="Calibri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2004-2021Aspose Pty L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with Aspose.Slides for .NET 4.0 Client Profile 21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21-12-17T15:33:25Z</dcterms:modified>
  <cp:revision>1</cp:revision>
  <dc:subject/>
  <dc:title>PowerPoint Presentation</dc:title>
</cp:coreProperties>
</file>