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B81-5256-46C9-A2B8-353D830C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AEC7-205B-45C1-A106-FCA7F886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5BB-C1F6-4BEA-9988-E57A4C54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873-BE1A-4C97-B23E-EFDC7F6B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79D-9266-4D44-8DDC-2C4E12EA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9AA-105C-499E-8B5C-0361BC7D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B06-49AB-4228-BF76-8ABB548F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5CA9-D165-4D0C-8D01-164B31F7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46B-CFDA-4968-A0E7-0D89127D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80A-5E7F-4CFB-AD13-84A2A39D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988-D702-420B-AD35-8675CAE3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3EE-ECCE-4773-A3A3-0E1025C7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84AB-7454-46EE-9011-6915D964CE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18:50:15Z</dcterms:created>
  <dc:creator>Serge</dc:creator>
  <dc:description/>
  <dc:language>en-US</dc:language>
  <cp:lastModifiedBy>Сергей</cp:lastModifiedBy>
  <dcterms:modified xsi:type="dcterms:W3CDTF">2021-12-17T16:36:39Z</dcterms:modified>
  <cp:revision>8</cp:revision>
  <dc:subject/>
  <dc:title>No Transition</dc:title>
</cp:coreProperties>
</file>