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728-8F62-4AFF-962E-F61ED3AF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29B-49F5-456C-901D-8E6BDB92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355-65A0-4AC8-A869-8EE0A017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EB3-407E-4E53-86EC-07D3F319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983-B3EF-4F47-B5F1-F690F51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38C-E255-45DE-96A3-27892BD7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F75-65C9-47E6-8D2F-53E809BF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9EC-7983-4BA6-83F7-EDBD0384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433-1DBB-4357-A51D-64276683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359-71FE-4666-AB03-A3C87F1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FC5-0674-4E75-8D7A-1A646981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949-24C2-454F-9EB8-4CB9063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Calibri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Calibri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Calibri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Calibri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Calibri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Calibri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3032DD64-EE0E-4760-BD0F-9525AD49E09B}" type="datetime"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07/31/26</a:t>
            </a:fld>
            <a:endParaRPr b="0" i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i="1" lang="en-US" sz="1219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6929E4BC-D8D6-4EF6-BA71-DAF433BC8152}" type="slidenum"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New shape"/>
          <p:cNvSpPr/>
          <p:nvPr/>
        </p:nvSpPr>
        <p:spPr>
          <a:xfrm>
            <a:off x="127080" y="127080"/>
            <a:ext cx="2539800" cy="317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endParaRPr b="0" i="1" lang="en-US" sz="1219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i="1" lang="en-US" sz="1219800" spc="-1" strike="noStrike" u="sng">
                <a:solidFill>
                  <a:srgbClr val="4f81bd"/>
                </a:solidFill>
                <a:uFillTx/>
                <a:latin typeface="Arial"/>
              </a:rPr>
              <a:t>Sample text</a:t>
            </a:r>
            <a:endParaRPr b="0" i="1" lang="en-US" sz="1219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i="1" lang="en-US" sz="1219800" spc="-1" strike="noStrike" u="sng">
                <a:solidFill>
                  <a:srgbClr val="4f81bd"/>
                </a:solidFill>
                <a:uFillTx/>
                <a:latin typeface="Arial"/>
              </a:rPr>
              <a:t>Sample text </a:t>
            </a:r>
            <a:r>
              <a:rPr b="0" i="1" lang="en-US" sz="4800" spc="-1" strike="noStrike" u="sng">
                <a:solidFill>
                  <a:srgbClr val="4f81bd"/>
                </a:solidFill>
                <a:uFillTx/>
                <a:latin typeface="Times New Roman"/>
              </a:rPr>
              <a:t>2</a:t>
            </a:r>
            <a:endParaRPr b="0" i="1" lang="en-US" sz="4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61672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aluation only.</a:t>
            </a:r>
            <a:endParaRPr b="0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i="1" lang="en-US" sz="1219800" spc="-1" strike="noStrike" u="sng">
                <a:solidFill>
                  <a:srgbClr val="ffffff"/>
                </a:solidFill>
                <a:uFillTx/>
                <a:latin typeface="Arial"/>
              </a:rPr>
              <a:t>Copyright 2004-2021Aspose Pty Ltd.</a:t>
            </a:r>
            <a:endParaRPr b="0" i="1" lang="en-US" sz="1219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i="1" lang="en-US" sz="1219800" spc="-1" strike="noStrike" u="sng">
                <a:solidFill>
                  <a:srgbClr val="ffffff"/>
                </a:solidFill>
                <a:uFillTx/>
                <a:latin typeface="Arial"/>
              </a:rPr>
              <a:t>Created with Aspose.Slides for .NET 4.0 Client Profile 21.12.</a:t>
            </a:r>
            <a:endParaRPr b="0" i="1" lang="en-US" sz="1219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8T12:21:07Z</dcterms:created>
  <dc:creator/>
  <dc:description/>
  <dc:language>en-US</dc:language>
  <cp:lastModifiedBy/>
  <cp:lastPrinted>2019-06-28T17:21:07Z</cp:lastPrinted>
  <dcterms:modified xsi:type="dcterms:W3CDTF">2021-12-17T15:25:07Z</dcterms:modified>
  <cp:revision>1</cp:revision>
  <dc:subject/>
  <dc:title/>
</cp:coreProperties>
</file>