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805-8741-4E02-AC80-6FE82DE4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FDE-382F-40E1-B420-30659743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E96-BC01-4DF9-9A10-D7423B36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A33-F2FF-4843-89CF-8F30F3E9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25E-C25A-4984-907A-07B126B5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D55-1972-4272-9B67-FD608495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B6A-2B8B-44CF-9356-B4D34DFB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941-D270-45B8-BB44-FB39635C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E7A-DFD1-4937-85AF-CFB32B16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F74-C364-41F9-82B6-ECA653FB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963-4AEF-4961-BD08-6C1BCCB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6E7-A4E8-43B2-94E9-E4D164B8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DD56-35D4-4034-8D42-3158598C1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035080" y="12492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4191120" y="5181480"/>
            <a:ext cx="4762440" cy="1398600"/>
            <a:chOff x="4191120" y="5181480"/>
            <a:chExt cx="4762440" cy="1398600"/>
          </a:xfrm>
        </p:grpSpPr>
        <p:sp>
          <p:nvSpPr>
            <p:cNvPr id="44" name="Rectangle 5"/>
            <p:cNvSpPr/>
            <p:nvPr/>
          </p:nvSpPr>
          <p:spPr>
            <a:xfrm>
              <a:off x="4191120" y="5473800"/>
              <a:ext cx="2486160" cy="1087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7156440" y="5181480"/>
              <a:ext cx="1797120" cy="1398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Jawad Ahmed</cp:lastModifiedBy>
  <dcterms:modified xsi:type="dcterms:W3CDTF">2016-05-26T12:18:20Z</dcterms:modified>
  <cp:revision>2</cp:revision>
  <dc:subject/>
  <dc:title>PowerPoint Presentation</dc:title>
</cp:coreProperties>
</file>