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77C-14C0-4642-B16F-E9BD18CE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F50-00C2-4017-92E2-909A2162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C9E-4B19-465E-9DDF-6E5200F2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C10-C68B-4409-B66F-282BB733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6A2-E9C9-4403-8D7F-C78340E3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8E1-9573-4125-820A-4A21C76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51F-7EA2-458A-B41D-E704B30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67A-2214-4436-A648-E4DD2D8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51B-0A81-452B-83E9-7229821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ADC-6F6F-40AA-83C0-BD8252C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86E-3A36-4037-8F7E-6253ED2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62B-918F-42DF-85B7-B4FD3EB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B4C3CB-5D41-45B5-95BD-6E058208418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ragraphs>0</Paragraphs>
  <Company>Our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 Category</cp:category>
  <cp:contentType>Template Content</cp:contentType>
  <dcterms:created xsi:type="dcterms:W3CDTF">2006-08-16T00:00:00Z</dcterms:created>
  <dc:creator>Template Author</dc:creator>
  <dc:description>Created from template</dc:description>
  <cp:keywords>Keyword1 Keyword2 Keyword3</cp:keywords>
  <dc:language>en-US</dc:language>
  <cp:lastModifiedBy>skvtor</cp:lastModifiedBy>
  <dcterms:modified xsi:type="dcterms:W3CDTF">2013-03-29T14:47:07Z</dcterms:modified>
  <cp:revision>6</cp:revision>
  <dc:subject>Template Subject</dc:subject>
  <dc:title>Templat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