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F6E-C44D-47FF-8428-5EA500A0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A71-70E7-482A-BA78-E062AD31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688-22C8-401D-BA20-8434A32D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AFA-E32E-45D9-86CC-1D995277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605-F6BF-4FF2-BAC4-B8579BC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479-6F40-48F8-AF58-B91465DC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245-343C-4B1E-91D1-C053D88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3E9-3D06-4604-9577-D4FC335A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178-F663-4FF3-8814-5B50E29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265-23A6-4AE4-8755-D3A2308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BAF-AF4C-4050-BF7D-EF9CB67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194-0F90-4DE3-8AB2-7CB7C47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EEC-2BC6-41FD-AF8F-42EB7237F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9C46-8520-4FAD-8EBB-0EA9ABD16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B243-B4D3-4977-BE2F-DCCB0BDEC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1:20:48Z</dcterms:modified>
  <cp:revision>1</cp:revision>
  <dc:subject/>
  <dc:title>PowerPoint Presentation</dc:title>
</cp:coreProperties>
</file>