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ABBF-C49C-486B-867E-97519C6FF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B511-F6F1-4633-9208-26FF8C34E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430F-150C-4DB2-A1FF-7CD2F5459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C6AF-334C-4889-9346-68545F032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2A55-6828-47B1-B0A6-299C6BF54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F19E-B91F-4A04-A4CA-82D718E61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CC08-F6BF-4C41-AC6F-4D99CA885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9993-5101-4DAF-91AD-28D2EECAF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33CE-CF94-46F2-B0B8-AD643E4A3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F8DB-ABE0-4152-9ECD-C3AFDA3BB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70C0-6716-4E26-B1B3-B9E8C479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02DE-558F-415D-A33E-753259436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FCC1E-18DD-4DAA-B20E-3D79CAF93E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is is Presentation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is the contents under this sli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19T11:43:16Z</dcterms:created>
  <dc:creator>Zeeshan Shafqat</dc:creator>
  <dc:description/>
  <dc:language>en-US</dc:language>
  <cp:lastModifiedBy>Zeeshan Shafqat</cp:lastModifiedBy>
  <dcterms:modified xsi:type="dcterms:W3CDTF">2016-05-19T11:49:21Z</dcterms:modified>
  <cp:revision>1</cp:revision>
  <dc:subject/>
  <dc:title>This is Presentation</dc:title>
</cp:coreProperties>
</file>