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550-1A20-4DE9-ACDB-FE460571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CE3-113E-4E48-860E-BCE5F610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7F4-DDE6-4615-93B2-65257203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743-FA0D-4FFB-9CAF-3263C8DA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F94-759C-4C80-BA64-EB6BEB6F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AAF-7D61-4292-AD1C-787355AC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464-9946-4D34-A9BA-7E392635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486-BF0C-47B4-AE9F-7B29FF70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268-3C06-4108-8434-DC54A02E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1AE-BAF7-491A-99D1-CC67D616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6EC-728A-4271-A562-B994122F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BFF-FC7F-4D31-BA4C-B2DD6A1D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F1C8-3EAD-424F-A693-BF41C07E5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035080" y="124920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4191120" y="5181480"/>
            <a:ext cx="4762440" cy="1398600"/>
            <a:chOff x="4191120" y="5181480"/>
            <a:chExt cx="4762440" cy="1398600"/>
          </a:xfrm>
        </p:grpSpPr>
        <p:sp>
          <p:nvSpPr>
            <p:cNvPr id="43" name="Rectangle 5"/>
            <p:cNvSpPr/>
            <p:nvPr/>
          </p:nvSpPr>
          <p:spPr>
            <a:xfrm>
              <a:off x="4191120" y="5473440"/>
              <a:ext cx="2486160" cy="1087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Oval 6"/>
            <p:cNvSpPr/>
            <p:nvPr/>
          </p:nvSpPr>
          <p:spPr>
            <a:xfrm>
              <a:off x="7156440" y="5181480"/>
              <a:ext cx="1797120" cy="1398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Jawad Ahmed</cp:lastModifiedBy>
  <dcterms:modified xsi:type="dcterms:W3CDTF">2016-06-02T20:29:03Z</dcterms:modified>
  <cp:revision>3</cp:revision>
  <dc:subject/>
  <dc:title>PowerPoint Presentation</dc:title>
</cp:coreProperties>
</file>