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BD96-1110-42EE-8D1E-7AB845E80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57CD-BFA5-4324-A7D3-6F474FF1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B404-6054-4D14-8535-1802BAF01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1338-1C35-4018-A190-C0AC570A4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B920-AC47-4EAD-B972-CF252707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E4CA-B6EF-485F-B3EA-FE863FDB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42D9-D755-49A5-9573-3F610E60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D80A-866A-4BA5-BDA0-99FA2CBC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C505-3EFC-425D-B762-1A2849A6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B8FD-257F-478C-B4C6-DA0B4849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D1D1-6E3A-46FC-A0A3-2C7C1FCE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72D9-9525-4A80-8158-6E3DC1F6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A574-436B-470D-801F-0D8FCDFDE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Engine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s almost always over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m to be some systematic fac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e developers are yo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gue requirements lead to overr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tical Path Mistake: EM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problem with E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s a dependenc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 waiting for Ar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have to stop developing, switch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incredibly disruptive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for entire proje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engine can do without 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 synthesizes placeholder grap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ed up scrapping entire EML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tical Path Fix: EML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rage BabelScr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comma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text in any 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rectangle in any color or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tangle with b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tangle with tiled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tangle with transparent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e actions with rect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alog is a BabelScript subrou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ical EML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1295280"/>
            <a:ext cx="8076960" cy="478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routine EditInterfaceSliderDialog(title, opts) of P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 Calculate the window si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 txtwidth, ctrlwidth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id,qty,txt inlist(opt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 v = clientfontmeasure("tahoma(9)", 10000, string(txt,":"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 w = nth(v,3)-nth(v,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w &gt; txtwidth) txtwidth = w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qty * 18 &gt; ctrlwidth) ctrlwidth = qty*18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 height = (length(opts) / 3) * 2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 x0=0; var x1=10; var x2=x1+txtwidth; var x3=x2+4; var x4=x3+ctrlwidth; var x5=x4+1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 y0=0; var y1=50; var y2=y1+height; var y3=y2+1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 win = boxdrag(boxplaced(Client.DialogID,Client.Screen,x5,y3,"c"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 cbox = boxposition("CBOX:",win,x4-16,y0+10,x4,y0+2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 titlebox = boxposition("TITLE:",win,x1,y0+10,x4-20,y0+44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intstyle(win,1,"wingeneric","win1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inttext(titlebox,0,"tahoma(9)lt",titl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intStyle(cbox,1,"wingeneric",string("close",buttonstate(cbox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tonReply(cbox,client.DialogHost,"closebox",w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c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ual Approach to Loc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1143000"/>
            <a:ext cx="32767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 of BrickRackBuil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menu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!Place.Inventory[Bricks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m("Make bricks“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76920" y="1143000"/>
            <a:ext cx="327636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 of BrickRackBuil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menu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!Place.Inventory[Bricks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m(STRING_MAKE_BRICK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3200400"/>
            <a:ext cx="4343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glis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ING_MAKE_BRICKS=“make brick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ING_KICK_BABY=“kick the baby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9880" y="4114800"/>
            <a:ext cx="4343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rma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ING_MAKE_BRICKS=“mache Ziegel 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ING_KICK_BABY=“treten Sie das Baby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510552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terrible approach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bad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ugg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bad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r Approach to Loc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143000"/>
            <a:ext cx="32767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 of BrickRackBuil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menu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!Place.Inventory[Bricks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m("Make bricks“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9880" y="3124080"/>
            <a:ext cx="4343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rma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e “make Brick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“mache Ziegel 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e “kick the baby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“treten Sie das Baby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5105520"/>
            <a:ext cx="716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s dependency between translator and programme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rupt programmer – bett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failure mode – bett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ng / Buc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ed implementing just for sake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 only does outd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llision det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major mistake: “good graphic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eed good grap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understood what good graphics a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g/Buck in Grap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52680" y="59436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scape Tor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47920" y="108576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23880" y="1104840"/>
            <a:ext cx="6172200" cy="4632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00400" y="57150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ntown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g/Buck in Grap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-party 3D Eng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id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time, no free eng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I probably wou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ain, comes down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ng/bu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 and c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option: third-party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3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pay a cost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 to Debugg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y Mechanism to Replay Cra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e structured as event-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in a “recording”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deterministically play-back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 could mail log back to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if it crashes, I can replay in debug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Tale in the Dese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game to w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ayer online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 3D renderer, high quality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rated by review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very chea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programmers + 2 artists, 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$1M sp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we do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: unusual software engineering pract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ent Replay Partly Successfu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 Heap not determin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our own Heap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helped some, but still not quit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ually, Drivers were mai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d RAM surprisingly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rver Replay Fully Successfu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important to debug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ork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ux much more determin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are was ours: known 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rs were not an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rs are rock-s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ments in debugging paid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Bug Mgm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t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vestment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n’t an option for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views in the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g Tr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a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other Investment in Debugg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OpenGL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Z-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ble Bl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Ligh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Light1 to 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er list of triangles (with zbuf, no blending, blue l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ble Z-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Blending already Dis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ble Ligh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ight1 color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er list of triangles (with no zbuf, no blending, no l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is “set state, then render list of triangle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with this style: bug-pr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Eng and OpenG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OpenGL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Z-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ble Bl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Ligh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Light1 to 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er list of triangles (with zbuf, no blending, blue l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ble Z-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ble Blending // redundant, but put it here any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ble Ligh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Light1 to White // irrelevant, but put it here any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er list of triangles (with no zbuf, no blending, no l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is “set ALL state, then render list of triangle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with this style of code: S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Eng and OpenG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rapper around OpenG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d RenderZNB(triang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Z_buffer_enabled==0) { Enable Z-buffer; Z_buffer_enabled=1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Blending_enabled==1) { Disable Blending; Blending_enabled=0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Light1_enabled==0) { Enable Light 1; Light1_enabled=1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Light1_color!=blue) { Set Light1 to Blue; Light1_color=blue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er list of triangles (with no zbuf, no blending, no l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bad. Used this for a wh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Eng and OpenG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special cases explo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GL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X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Force 2 pixel processing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Force 4 pixel processing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eon/GeForce FX pixel processing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ex program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rendering modes explo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: about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: about 1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 Unmanage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Eng and OpenG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1066680"/>
            <a:ext cx="5486400" cy="499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 dynclou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meters mat $PROJ mat $MODV int $NVERT arr $VA int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intsize 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phatest g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buffer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l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mask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ending stand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tex simple $PROJ $MOD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simple triangles $NVERT arr vtx tex0 tex1 tex2 col $VA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gment nvrc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gb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ard = tex0.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ard = tex1.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x0 = sum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c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.rgb = col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.a = tex0.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xture simple $NOISE wrap lin clod -2 $NOISE wrap lin clod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m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066680"/>
            <a:ext cx="2819520" cy="494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ittle language, eliminated three classes of bug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r guarantees deterministic behavior if I omit a piece of stat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r guarantees that DirectX and OpenGL produce same result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r guarantees that it runs code that the card suppor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dynamically edit rendering modes while game is runn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Eng and OpenGL Les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Variables Ba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ly provides a nice API, but more importa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seen as investment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seen as investment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eGenesis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n’t know what first game was to b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ed game based on Bug’s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ed game based on mad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ed up writing game in ancient Egyp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knowledge was a good 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 did kn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econo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er builds fa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y cons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y produ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piration: Info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lan: implement a specialized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eGenesis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48320" y="1828800"/>
            <a:ext cx="373356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consume(Wood,1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sleep(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consume(Wood,1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sleep(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produce(Boards,1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14479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mber Mill Co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066680"/>
            <a:ext cx="8305560" cy="350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 of BrickRackBuilding guard macro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menu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(!Place.Inventory[Bricks] &amp; !Place.Inventory[WetFirebricks]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em("Make bricks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time 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 req=&lt;&lt;Mud,3,Straw,2,Sand,1&gt;&gt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(!has(actor,req)) ReqFail("To make Bricks, you need: ", req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or-&gt;eConsumeList(req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Graphic(Place,"model=brickrack-wet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time 3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ce-&gt;eProduce(Bricks,6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Graphic(Place,"model=brickrack-full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4800600"/>
            <a:ext cx="38098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icit menu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or and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access to 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52880" y="4800600"/>
            <a:ext cx="3353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icit Paralle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utable Data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lions of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lan Work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w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custom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ustom language to write 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ur case: 3MB engine, 8MB scrip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id this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seen as investment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seen as investment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effect of maximiz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ang/bu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ritical P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990720"/>
            <a:ext cx="28958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D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o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1676520"/>
            <a:ext cx="281952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 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n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14479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209680" y="2133360"/>
            <a:ext cx="3733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320040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roved Critical P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4191120"/>
            <a:ext cx="144792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D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n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52578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o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286000" y="4723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209680" y="15238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1828800"/>
            <a:ext cx="144756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o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19520" y="4191120"/>
            <a:ext cx="281916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 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n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5257800"/>
            <a:ext cx="2895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D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o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286000" y="579096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urrent 2D &amp; L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divided engine into two pi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/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API between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ame_Get_Ter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ame_Get_Spr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ame_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ame_InvokeAn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tical Path Mistake: EM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952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: HTML for Dialog Bo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picture of di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“mask” indicating “field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INI file giving fields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L says what to put in the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3733920"/>
            <a:ext cx="5105520" cy="204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ield “ok”&gt;  &lt;invoke “oksubroutine()”&gt; &lt;/field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ield “cancel”&gt; &lt;invoke “cancelsubroutine()”&gt; &lt;/field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ield “inventory”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&lt;vbox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&lt;hbox&gt;&lt;text “roosters”&gt;&lt;text “25”&gt;&lt;/hbox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&lt;hbox&gt;&lt;text “hens”&gt;&lt;text “16”&gt;&lt;/hbox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&lt;/vbox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fiel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172200" y="3048120"/>
            <a:ext cx="2336760" cy="1752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867280" y="990720"/>
            <a:ext cx="2438640" cy="1828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791320" y="4952880"/>
            <a:ext cx="25146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n=invento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=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=can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03:30:07Z</dcterms:created>
  <dc:creator>Julio Gonzales</dc:creator>
  <dc:description/>
  <dc:language>en-US</dc:language>
  <cp:lastModifiedBy>Josh Yelon</cp:lastModifiedBy>
  <dcterms:modified xsi:type="dcterms:W3CDTF">2005-01-24T17:26:29Z</dcterms:modified>
  <cp:revision>12</cp:revision>
  <dc:subject/>
  <dc:title>Game Creation with Panda3D</dc:title>
</cp:coreProperties>
</file>