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1213-2893-4CEC-93C5-BD6A850C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4F7A-EEAE-4E25-A7B5-799F09AA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7733-11D4-4FDB-B2EF-CF6ECAA6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EA6D-F8FB-4EC4-82C4-F97B8FA61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E328-3D05-41F2-B9C6-E2071C00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2E7F-930A-4458-9DC0-5CD8A877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6A90-502B-4EC2-9ED9-8F7FF5D6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6EDD-AFE7-45E3-B09D-3BA1C5E5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FA2D-22BC-42F7-B4CC-3A770F0A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C446-5C95-4E06-A84F-520E19C7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DF1B-AFD9-4DD1-9788-B498E0C5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974F-965C-48E9-A6E2-D48F6EF2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EB9E-445E-4E82-B7AC-5EC2989C1093}" type="slidenum"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C:\3dsmax5\3dsmax.ex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C:\mygame\gamestage7.ba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C:\mygame\gamestage1.ba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C:\mygame\gamestage2.ba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C:\mygame\gamestage3.ba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C:\mygame\gamestage4.ba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C:\mygame\gamestage5.ba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C:\mygame\gamestage6.bat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me Creation with Panda3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te Ar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te Artwork using Max or Ma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ve Artwork as ‘Egg’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rite game in Pyt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ort the Panda3D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ad the artwork from the Egg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ition the artwork in cartesia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ition the camera in cartesia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t panda render the sc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37160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2920" y="1066680"/>
            <a:ext cx="165096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ge 7: Follow-C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# Attach the Camera to B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e.disableMouse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e.camera.reparentTo(charac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e.camera.setPos(0,15,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e.camera.lookAt(0,0,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10280" y="1143000"/>
            <a:ext cx="10558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llow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nda3D is installed in Weh53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ust type: ppython filename.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anual is at Panda3D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anual contains a tuto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class webpage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cs.cmu.edu/~jkh/video_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se slides and sample programs will soon be on the class web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0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0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0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0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0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ge 1: the Bas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# Load the panda libra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ort sys,os,m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direct.directbase import Direct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direct.task import 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direct.actor import A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direct.showbase import DirectO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pandac.PandaModules impor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# Load the courtyard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urtyard = loader.loadModel("courtyard"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urtyard.reparentTo(ren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# Load the character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racter = Actor.Actor("bubman",{"walk":"bubman"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racter.loop("walk"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racter.reparentTo(ren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# Position the cam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e.disableMous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e.camera.setPos(-20,-10,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e.camera.lookAt(0,0,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# Let it re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1143000"/>
            <a:ext cx="10558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Panda Main Lo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our co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# let it r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de inside the Panda3D libr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 run(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ile (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l user-implemented task-subrout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l user-implemented event-subrout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date all the animated 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nder the sc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ge 2: A Spinning Cam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#Task to move the c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 SpinCameraTask(task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gleradians = task.time*6.0*(math.pi / 180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mx = 20*math.sin(angleradi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my = -20.0*math.cos(angleradi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e.camera.setPos(camx,camy,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e.camera.lookAt(0,0,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turn Task.c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skMgr.add(SpinCameraTask, "SpinCameraTask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# Let it r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2743200"/>
            <a:ext cx="10555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ge 3: Adding Ligh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# Create Two 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ght_a = AmbientLight("ambientLight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ght_a.setColor(Vec4(0.6,0.4,0.4,1.0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ght_d = DirectionalLight("dirLight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ght_d.setColor(Vec4(1.0,1.0,1.0,1.0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ght_d.setPoint(Point3(100,-30,50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ght_d.setDirection(Vec3(-100,30,-50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# Tell every object to use the 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ghts = LightAttrib.makeAllOff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ghts = lights.addLight(light_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ghts = lights.addLight(light_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nder.node().setAttrib(ligh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# Let it r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1752480"/>
            <a:ext cx="105552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ge 4: Keyboard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# Create the Bob-Controller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BobController(DirectObject.DirectObjec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 __init__(self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f.accept('arrow_up', self.moveForw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f.accept('arrow_left', self.rotateCharacter, [30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f.accept('arrow_right', self.rotateCharacter, [-30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 moveForward(self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x = math.cos((character.getH()-90)*math.pi/1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y = math.sin((character.getH()-90)*math.pi/1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 = character.getX() + 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 = character.getY() + 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racter.setPos(x,y,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 rotateCharacter(self, degre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racter.setH(character.getH()+degre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me = BobControlle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10280" y="1981080"/>
            <a:ext cx="10558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ge 5a: Smooth Mo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# Create the Bob-Controller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BobController(DirectObject.DirectObject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 __init__(self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f.buttonState = {"left":0, "right":0, "up":0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f.accept('arrow_left',        self.setButtonState, ["left",1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f.accept('arrow_left-up',   self.setButtonState, ["left",0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f.accept('arrow_right',      self.setButtonState, ["right",1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f.accept('arrow_right-up', self.setButtonState, ["right",0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f.accept('arrow_up',         self.setButtonState, ["up",1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f.accept('arrow_up-up',    self.setButtonState, ["up",0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f.lastTime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skMgr.add(self.moveBobTask,"MoveBobTask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 setButtonState(self, key, valu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f.buttonState[key] =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ge 5b: Smooth Motion (co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 moveBobTask(self, task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apsed = task.time - self.last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f.lastTime = task.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lta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(self.buttonState["left"]): delta +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(self.buttonState["right"]): delta -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racter.setH(character.getH() + elapsed*200*del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(self.buttonState["up"]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x = math.cos((character.getH()-90)*math.pi/18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y = math.sin((character.getH()-90)*math.pi/18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 = character.getX() + dx*10*elap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 = character.getY() + dy*10*elap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racter.setPos(x, y,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turn Task.c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1371600"/>
            <a:ext cx="10558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ge 6: Something to Ch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ass BottleController(DirectObject.DirectObject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 __init__(self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f.randomizeBottl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skMgr.add(self.chaseTask, "ChaseTask"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 calcDistance(self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dist = character.getX() - bottle.getX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dist = character.getY() - bottle.getY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turn(math.sqrt(xdist*xdist + ydist*ydist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 randomizeBottle(self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ile(self.calcDistance() &lt; 3.0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 = random.random()*45.0 - 2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 = random.random()*45.0 - 2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ottle.setPos(x,y,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 chaseTask(self, task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(self.calcDistance() &lt; 3.0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lf.randomizeBottl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turn Task.co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1600200"/>
            <a:ext cx="10558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03:30:07Z</dcterms:created>
  <dc:creator>Julio Gonzales</dc:creator>
  <dc:description/>
  <dc:language>en-US</dc:language>
  <cp:lastModifiedBy> </cp:lastModifiedBy>
  <dcterms:modified xsi:type="dcterms:W3CDTF">2005-01-10T21:33:08Z</dcterms:modified>
  <cp:revision>11</cp:revision>
  <dc:subject/>
  <dc:title>Game Creation with Panda3D</dc:title>
</cp:coreProperties>
</file>