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6CF9-F9CC-4356-B66E-629DB102F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7D02-0955-4438-858A-153CCE7D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CBEA-9ADF-42D9-9360-B9826A00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6FB2-4F7B-4595-8986-242B1E3A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086E-79ED-4BBC-8C46-B5E5CE02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0620-02A6-46BB-BF8D-90EDB1BB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9488-AF60-48FB-B7AC-AD3BB6E47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E492-29A1-4F6F-A1BC-49C0B4B5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D6FE-41C1-4DB2-816B-6EFCE56A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DC4F-47A1-4DC6-A7C5-344622D2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1B38-E85D-48A6-B1A9-0EEB48B7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540D-6747-4EED-ADD3-AF4ADC8A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5DC2-CEC1-4E85-B5E2-48C99BCD82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Networking for Games (Part 2)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t tim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ncy and Bandwid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ort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ncy hi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tim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cols and software lay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ling with Chea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da3D’s Networking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Auto-Updater as Anti-Cheat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try too hard to prevent ch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, do take some minor steps to slow them d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: use relative values in protoc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a good reactive proced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uto-updater is central – don’t ask, just do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random incompatible protocol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tually, resistant cheats will app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the resistant cheats – you can break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dget for this lab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so difficult, because programmers are idle n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Panda Networking Layer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ent-server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erver is mindless. clients do all w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ration: “create object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 mirrored to everyone in z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ration: “invoke metho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 executed by object’s ow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ration: “invoke metho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 executed by everyone in z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return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create “dclass”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How to make a Panda Server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71600" y="1600200"/>
            <a:ext cx="6248520" cy="37339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ort direct.directbase.DirectSt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direct.showbase.ShowBaseGlobal import 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direct.distributed import ServerReposi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the server is a panda background ta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= ServerRepository(tcpPort=12345, udpPort=1234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for debugging: sleep for 0.05 seconds every fr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.setSleep(0.0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insert any other code he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n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09440" y="5562720"/>
            <a:ext cx="519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o, there’s no security in the panda net layer ye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Panda Client: Init Code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990720"/>
            <a:ext cx="7924680" cy="54100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MySuperGame(DirectObjec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 __init__(self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.clientrepository = ClientRepository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erURL = URLSpec("http://localhost:12345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.clientrepository.connect([serverURL]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.taskMgr.addTask(self.monitor, “monitor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 monitor(self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(self.clientRepository.isConnected()==0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.exit(“Lost connection to server.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.clientrepository.sendSetZoneMsg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(self.clientrepository.haveCreateAuthority()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(self.gamestarted = 0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.startGam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turn Task.co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Distributed Object: Creation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990720"/>
            <a:ext cx="7924680" cy="32004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 ship(DistributedObject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 generate(self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(self.isLocal()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f.trueposition = (0,0,0,0,0,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f.prevupdate = (0,0,0,0,0,0,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f.lastupdate = (0,0,0,0,0,0,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ship = self.clientrepository.createWithRequired(“ship”, 1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4343400"/>
            <a:ext cx="7924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tributed objects are mirrored to all processo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ever, not all mirrors need to be identic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onstructor for distributed objects is called ‘generate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‘isLocal’ to determine if we created a distributed obj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‘clientrepository.createWithRequired’ to create a distributed obj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Distributed Objects: Method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990720"/>
            <a:ext cx="7924680" cy="54100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shi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 takeDamage(self, amoun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this function is meant to be executed only by object’s ow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.hitpoints -= am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 notifyPosition(self, x,y,z,dx,dy,dz,tim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this function is meant to be executed by everyone but ow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.prevupdate = self.lastup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.lastupdate = (x,y,z,dx,dy,dz,tim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 setPlayerName(self, nam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part of a pair of field access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f.playerName =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 getPlayerName(self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# part of a pair of field access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turn self.player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The “sample.dc” File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914400"/>
            <a:ext cx="8076960" cy="27432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om spaceship import 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ort typ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class sh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keDamage(int8 amount) p2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fyPosition(float x,float y,float z,float dx,float dy,float dz,float t) broadcas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layerName(string name) broadcast p2p require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3962520"/>
            <a:ext cx="79250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2p – message goes to owner 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oadcast – message goes to everyone but s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2p + broadcast – message goes to everyone including s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hods that start with ‘set’ are special – these define “required field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ship.sendUpdate(“takeDamage”, [15])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is is 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ship.takeDamage(15)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is is n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fd293"/>
                </a:solidFill>
                <a:latin typeface="Arial"/>
              </a:rPr>
              <a:t>Distributed Objects: Required Fields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 setXyz and getXy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t setXyz into dclass file, mark it ‘required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ize Xyz in ‘generate’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will ensu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value is propag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value is preser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Panda Networking: Other Stuff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.sendDeleteMsg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n’t just call “delet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.updateZone(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don’t know why you need zones, but h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entrepository.findAnyOfType(shi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at’s a class object, not a st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entrepository.getAllOfType(shi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at’s a class object, not a st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ng a ClientRepository imports “sample.dc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ke sure you don’t have cyclical import stat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a sample program, “chatroom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y it o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rver can be a client to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 both ServerRepository and ClientReposi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AI Tank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clearly worked *hard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s and pages of utter gibber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bots beat Manfred and me hand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those who didn’t turn it in...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ournam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cked the six tanks with highest gr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 the six duel each 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ix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bergou, hkato, jmwu, lhang, norm, abpa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inn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mwu won decisively in “standard” maz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kato won decisively in “new” maz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Protocol Layer 1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143000"/>
            <a:ext cx="762120" cy="49528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3716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75248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25146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27432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37339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44197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46483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533412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8640" y="61722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CP Str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143000"/>
            <a:ext cx="76212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2514600"/>
            <a:ext cx="76212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4419720"/>
            <a:ext cx="76212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676160" y="1295280"/>
            <a:ext cx="15238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1676160" y="1523520"/>
            <a:ext cx="15238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1676160" y="1905120"/>
            <a:ext cx="1523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1676160" y="2286000"/>
            <a:ext cx="152388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1676160" y="2666520"/>
            <a:ext cx="1523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1676160" y="3200040"/>
            <a:ext cx="15238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676160" y="3505320"/>
            <a:ext cx="15238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88160" y="166212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 pointer &amp; leng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87800" y="219564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 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88160" y="288144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 pointer &amp; leng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87800" y="333864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ction 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4419720"/>
            <a:ext cx="5029200" cy="1572120"/>
          </a:xfrm>
          <a:prstGeom prst="rect">
            <a:avLst/>
          </a:prstGeom>
          <a:solidFill>
            <a:srgbClr val="5c1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this lay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no return 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no object ori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00600" y="41767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My Tank: ai_searcher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deadends. never go t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dend defined as “place with only 1 exi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cape algorithm (not very goo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running from the “bad spo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see the enemy, that is the “bad spo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wise, “bad spot” is where you were h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d nearest spot without LOS to bad 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ack algorithm (pretty goo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ray: which cells have I seen recen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ll three-move pl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ch plan exposes most new cell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first step of that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Implementing Layer 1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143000"/>
            <a:ext cx="4038480" cy="52578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Buff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pedef void (*fnp)(Buffer b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 Buff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id pack_header(fnp p, int len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id pack_int(int n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id pack_float(float f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id unpack_header(fnp *p, int *len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   unpack_int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at unpack_float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e: etc, etc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1143000"/>
            <a:ext cx="4190760" cy="52578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every player has an inco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message buffer and an outgo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buffer for each other play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ffer inbuf [NPLAYERS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ffer outbuf [NPLAYERS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run this code every fra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eive_from_TCP_into_inbuf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(int i=0; i&lt;NPLAYERS; i++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p p; int len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le (1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buf [i]-&gt;unpack_header(&amp;p, &amp;len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(p==0) brea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inbuf [i]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Implementing Layer 1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00600" y="1143000"/>
            <a:ext cx="3962520" cy="28954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any other player can comm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us to print a format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message: “FOO %d %f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id foo(Buffer 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n = b-&gt;unpack_in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at f = b-&gt;unpack_floa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ntf(“foo %d %f\n”, n, f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4114800"/>
            <a:ext cx="3962520" cy="25146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command player 2 to print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formatted message: “foo 26 8.2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ffer b = outgoing[2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header(foo, 8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int(26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float(8.2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d_outbuf(2); // do TCP wr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143000"/>
            <a:ext cx="4191120" cy="54864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every player has an inco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message buffer and an outgo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buffer for each other play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ffer inbuf [NPLAYERS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ffer outbuf [NPLAYERS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run this code every fram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eive_from_TCP_into_inbuf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(int i=0; i&lt;NPLAYERS; i++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p p; int len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ile (1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buf [i]-&gt;unpack_header(&amp;p, &amp;len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(p==0) brea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(inbuf [i]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Implementing Return Values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066680"/>
            <a:ext cx="3962520" cy="54104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this time, we’re going to remote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invoke foo, but wait for a return v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ffer b = outgoing[2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header(foo, 16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int(26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float(8.2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this is how you wait for retv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int(my_index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int(my_threa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nd_outbuf(2); // do TCP wr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read_suspend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we woke up – player 2 m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have intentionally awakened 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ffer b = incoming[2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retval = b-&gt;unpack_in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952880"/>
            <a:ext cx="3962520" cy="15242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id retval(Buffer 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caller_thread = b-&gt;unpack_in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read_awaken(caller_threa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1066680"/>
            <a:ext cx="3962520" cy="38102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id foo(Buffer 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n = b-&gt;unpack_in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at f = b-&gt;unpack_floa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ntf(“foo %d %f\n”, n, f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caller_index = b-&gt;unpack_int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 caller_thread = b-&gt;unpack_in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 send the return valu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 = outgoing[caller_index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header(retval,8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int(caller_threa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-&gt;pack_int(172); // the return v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Reducing the Bit-Count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eader: use a message 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396252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The body: compress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zlib gives 60% reduction (long msg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nonadaptive huffman (short msg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multi-session com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1676520"/>
            <a:ext cx="4953240" cy="17524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uct { fnp func; int len; } msgtable[ ] =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{ foo, 8 }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{ bar, 16 }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{ baz, 0 }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Cheating (plus anti-cheat Advice)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Primary types of cheat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Bug exploits – “write bug-free cod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Authoritative clients – “never trust clien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Information exposure – “client can’t keep secret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enial of Service Attacks – “don’t give out IP addr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Automation / Bots – “?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Why that Advice is Limited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95360" y="1219320"/>
            <a:ext cx="4152960" cy="1564920"/>
            <a:chOff x="495360" y="1219320"/>
            <a:chExt cx="4152960" cy="1564920"/>
          </a:xfrm>
        </p:grpSpPr>
        <p:sp>
          <p:nvSpPr>
            <p:cNvPr id="90" name=""/>
            <p:cNvSpPr/>
            <p:nvPr/>
          </p:nvSpPr>
          <p:spPr>
            <a:xfrm>
              <a:off x="495360" y="1219320"/>
              <a:ext cx="1332000" cy="156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05120" y="1219320"/>
              <a:ext cx="1331640" cy="156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316320" y="1219320"/>
              <a:ext cx="1332000" cy="156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1030320" y="1962720"/>
              <a:ext cx="392400" cy="758160"/>
              <a:chOff x="1030320" y="1962720"/>
              <a:chExt cx="392400" cy="758160"/>
            </a:xfrm>
          </p:grpSpPr>
          <p:grpSp>
            <p:nvGrpSpPr>
              <p:cNvPr id="94" name=""/>
              <p:cNvGrpSpPr/>
              <p:nvPr/>
            </p:nvGrpSpPr>
            <p:grpSpPr>
              <a:xfrm>
                <a:off x="1068120" y="1962720"/>
                <a:ext cx="156960" cy="468360"/>
                <a:chOff x="1068120" y="1962720"/>
                <a:chExt cx="156960" cy="46836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1146240" y="2118960"/>
                  <a:ext cx="0" cy="155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1146240" y="2275200"/>
                  <a:ext cx="39240" cy="155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>
                  <a:off x="1107360" y="2275200"/>
                  <a:ext cx="38880" cy="155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068120" y="2118960"/>
                  <a:ext cx="1569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1107360" y="1962720"/>
                  <a:ext cx="78120" cy="156240"/>
                </a:xfrm>
                <a:prstGeom prst="ellipse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"/>
              <p:cNvSpPr/>
              <p:nvPr/>
            </p:nvSpPr>
            <p:spPr>
              <a:xfrm>
                <a:off x="1030320" y="2444400"/>
                <a:ext cx="39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m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225080" y="2274840"/>
                <a:ext cx="11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397520" y="1296360"/>
              <a:ext cx="427680" cy="757440"/>
              <a:chOff x="1397520" y="1296360"/>
              <a:chExt cx="427680" cy="75744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1475280" y="1296360"/>
                <a:ext cx="156600" cy="469080"/>
                <a:chOff x="1475280" y="1296360"/>
                <a:chExt cx="156600" cy="4690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1553400" y="1452960"/>
                  <a:ext cx="0" cy="156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553400" y="1609200"/>
                  <a:ext cx="39240" cy="156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H="1">
                  <a:off x="1514520" y="1609200"/>
                  <a:ext cx="38880" cy="156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1475280" y="1452960"/>
                  <a:ext cx="1566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514520" y="1296360"/>
                  <a:ext cx="78120" cy="156600"/>
                </a:xfrm>
                <a:prstGeom prst="ellipse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1397520" y="1777320"/>
                <a:ext cx="42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ou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632240" y="1609560"/>
                <a:ext cx="117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355920" y="2001600"/>
              <a:ext cx="392400" cy="758160"/>
              <a:chOff x="3355920" y="2001600"/>
              <a:chExt cx="392400" cy="75816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3393360" y="2001600"/>
                <a:ext cx="156240" cy="468360"/>
                <a:chOff x="3393360" y="2001600"/>
                <a:chExt cx="156240" cy="4683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3471120" y="2157840"/>
                  <a:ext cx="0" cy="155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471120" y="2314080"/>
                  <a:ext cx="38880" cy="155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H="1">
                  <a:off x="3432240" y="2314080"/>
                  <a:ext cx="38880" cy="155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393360" y="2157840"/>
                  <a:ext cx="1562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432240" y="2001600"/>
                  <a:ext cx="77760" cy="156240"/>
                </a:xfrm>
                <a:prstGeom prst="ellipse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"/>
              <p:cNvSpPr/>
              <p:nvPr/>
            </p:nvSpPr>
            <p:spPr>
              <a:xfrm>
                <a:off x="3355920" y="2483280"/>
                <a:ext cx="39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m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549960" y="2313720"/>
                <a:ext cx="117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455560" y="2001600"/>
              <a:ext cx="392400" cy="758160"/>
              <a:chOff x="2455560" y="2001600"/>
              <a:chExt cx="392400" cy="75816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2493000" y="2001600"/>
                <a:ext cx="156240" cy="468360"/>
                <a:chOff x="2493000" y="2001600"/>
                <a:chExt cx="156240" cy="4683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2570760" y="2157840"/>
                  <a:ext cx="0" cy="155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570760" y="2314080"/>
                  <a:ext cx="38880" cy="155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>
                  <a:off x="2531880" y="2314080"/>
                  <a:ext cx="38880" cy="155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493000" y="2157840"/>
                  <a:ext cx="1562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531880" y="2001600"/>
                  <a:ext cx="77760" cy="156240"/>
                </a:xfrm>
                <a:prstGeom prst="ellipse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2455560" y="2483280"/>
                <a:ext cx="39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m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649600" y="2313720"/>
                <a:ext cx="117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216680" y="1296360"/>
              <a:ext cx="427680" cy="757440"/>
              <a:chOff x="4216680" y="1296360"/>
              <a:chExt cx="427680" cy="75744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4294440" y="1296360"/>
                <a:ext cx="156600" cy="469080"/>
                <a:chOff x="4294440" y="1296360"/>
                <a:chExt cx="156600" cy="4690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372560" y="1452960"/>
                  <a:ext cx="0" cy="156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372560" y="1609200"/>
                  <a:ext cx="39240" cy="156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>
                  <a:off x="4333680" y="1609200"/>
                  <a:ext cx="38880" cy="156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294440" y="1452960"/>
                  <a:ext cx="1566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333680" y="1296360"/>
                  <a:ext cx="78120" cy="156600"/>
                </a:xfrm>
                <a:prstGeom prst="ellipse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" name=""/>
              <p:cNvSpPr/>
              <p:nvPr/>
            </p:nvSpPr>
            <p:spPr>
              <a:xfrm>
                <a:off x="4216680" y="1777320"/>
                <a:ext cx="42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ou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51400" y="1609560"/>
                <a:ext cx="117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2414880" y="1296360"/>
              <a:ext cx="427680" cy="757440"/>
              <a:chOff x="2414880" y="1296360"/>
              <a:chExt cx="427680" cy="75744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2492640" y="1296360"/>
                <a:ext cx="156600" cy="469080"/>
                <a:chOff x="2492640" y="1296360"/>
                <a:chExt cx="156600" cy="4690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570760" y="1452960"/>
                  <a:ext cx="0" cy="156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570760" y="1609200"/>
                  <a:ext cx="39240" cy="156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2531880" y="1609200"/>
                  <a:ext cx="38880" cy="1562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492640" y="1452960"/>
                  <a:ext cx="1566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531880" y="1296360"/>
                  <a:ext cx="78120" cy="156600"/>
                </a:xfrm>
                <a:prstGeom prst="ellipse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" name=""/>
              <p:cNvSpPr/>
              <p:nvPr/>
            </p:nvSpPr>
            <p:spPr>
              <a:xfrm>
                <a:off x="2414880" y="1777320"/>
                <a:ext cx="42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ou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49600" y="1609560"/>
                <a:ext cx="117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"/>
          <p:cNvSpPr/>
          <p:nvPr/>
        </p:nvSpPr>
        <p:spPr>
          <a:xfrm>
            <a:off x="1526400" y="2895480"/>
            <a:ext cx="20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ver trust Clien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867280" y="1371600"/>
            <a:ext cx="2362320" cy="1828800"/>
            <a:chOff x="5867280" y="1371600"/>
            <a:chExt cx="2362320" cy="1828800"/>
          </a:xfrm>
        </p:grpSpPr>
        <p:sp>
          <p:nvSpPr>
            <p:cNvPr id="149" name=""/>
            <p:cNvSpPr/>
            <p:nvPr/>
          </p:nvSpPr>
          <p:spPr>
            <a:xfrm>
              <a:off x="5867280" y="1371600"/>
              <a:ext cx="2362320" cy="18288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75760" y="1981080"/>
              <a:ext cx="945000" cy="12189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43640" y="2590920"/>
              <a:ext cx="117720" cy="12168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5642280" y="327672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ent can’t keep secret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4724280"/>
            <a:ext cx="1066680" cy="12956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4572000"/>
            <a:ext cx="10666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3200" y="3581280"/>
            <a:ext cx="838080" cy="9907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4952880"/>
            <a:ext cx="914400" cy="11430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3200400" y="4572000"/>
            <a:ext cx="8380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5562720"/>
            <a:ext cx="160020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5640" y="563868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 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20085600">
            <a:off x="2057400" y="479988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 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513800">
            <a:off x="3504240" y="457200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 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22200" y="617220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ver give out IP addr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"/>
              </a:rPr>
              <a:t>Making it harder to Cheat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ed command vocabul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xt-sensitive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rypting commun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-Upd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uristic cheat dete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ayed det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al issues – open source libr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04:57:53Z</dcterms:created>
  <dc:creator> </dc:creator>
  <dc:description/>
  <dc:language>en-US</dc:language>
  <cp:lastModifiedBy>Julio Gonzales</cp:lastModifiedBy>
  <dcterms:modified xsi:type="dcterms:W3CDTF">2005-02-09T07:31:09Z</dcterms:modified>
  <cp:revision>17</cp:revision>
  <dc:subject/>
  <dc:title>Networking for (small) Games</dc:title>
</cp:coreProperties>
</file>