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8DE-5024-4101-96E6-C4DE5876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67B6-DD7F-4D78-BA3D-2E55A1B0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40A-C68F-47D8-A1E2-1A41486F3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18F-23A0-42C1-9212-9DF5C7313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CE0-35B8-4136-BD1E-A72443C5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FF3-3386-4731-B9F2-37D8A684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D208-383D-4322-8EDD-8610C368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9F3-6A83-420A-8DB9-6947FACB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1A19-77D4-4B1A-AB5F-17FF9F7F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D3B-6174-4691-B0DC-632CC71D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99C-0101-4AF8-A32B-1390F443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13A8-937F-49F1-9A3C-77983DE7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A3FA-601E-4732-AA9F-539FC02532D2}" type="slidenum">
              <a:rPr b="0" lang="ja-JP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ing for Gam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an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hiding Mech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Is for networ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ing with Che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read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threads (event-driv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(one per cli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preemptive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reads to minimize la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that usefu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reads as a programming constr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expression of indepe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Latency Hid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ways to deal with Lat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al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ys to conceal 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Reck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 it in the Game’s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send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player se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3276720"/>
            <a:ext cx="594360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3800" y="6019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33880" y="4379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56386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02920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876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52880" y="4724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44197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4876920"/>
            <a:ext cx="99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sends position and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maintains pos based on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player se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3276720"/>
            <a:ext cx="594360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3800" y="6019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33880" y="4379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81080" y="518148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5029200"/>
            <a:ext cx="9144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962520" y="4495320"/>
            <a:ext cx="9903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952880" y="45716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441972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48769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8288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 maintains pos based on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y update gradually (interpola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client believes / player se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276720"/>
            <a:ext cx="594360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3800" y="6019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33880" y="4379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981080" y="5181480"/>
            <a:ext cx="9907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5029200"/>
            <a:ext cx="9907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962520" y="4495320"/>
            <a:ext cx="99036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52880" y="45716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4419720"/>
            <a:ext cx="9907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4876920"/>
            <a:ext cx="99036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971800" y="5105160"/>
            <a:ext cx="990720" cy="759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62520" y="4495680"/>
            <a:ext cx="990360" cy="609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495680"/>
            <a:ext cx="990720" cy="76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572000"/>
            <a:ext cx="990720" cy="76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648320"/>
            <a:ext cx="990360" cy="533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ore Dead Reckon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wo data se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ent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ious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 two extrapolated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based on recent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based on previous 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olate from one to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uch continuity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ODSIM / Time Warp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MOD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ypical use: battlefield si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he simulation clock / que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challenge of parallel MODS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solution: Time Wa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Method invocations timestam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Object executes methods in chron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n case of out-of-order delivery, roll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eed GMT calc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ediction </a:t>
            </a:r>
            <a:r>
              <a:rPr b="0" lang="en-US" sz="4000" spc="-1" strike="noStrike">
                <a:solidFill>
                  <a:srgbClr val="dfd293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 Fewer Packe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Dead Reckoning to limi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5105520" cy="1589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3429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ediction in ATI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our world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t-yet-ack’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Rollback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t b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1752480"/>
            <a:ext cx="259056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ollis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 question… did I hit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752480"/>
            <a:ext cx="259056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1752480"/>
            <a:ext cx="259056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02000" y="2590920"/>
            <a:ext cx="607680" cy="749160"/>
            <a:chOff x="1602000" y="2590920"/>
            <a:chExt cx="607680" cy="749160"/>
          </a:xfrm>
        </p:grpSpPr>
        <p:grpSp>
          <p:nvGrpSpPr>
            <p:cNvPr id="118" name=""/>
            <p:cNvGrpSpPr/>
            <p:nvPr/>
          </p:nvGrpSpPr>
          <p:grpSpPr>
            <a:xfrm>
              <a:off x="1676520" y="2590920"/>
              <a:ext cx="304560" cy="457200"/>
              <a:chOff x="1676520" y="2590920"/>
              <a:chExt cx="3045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1828440" y="274356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8440" y="289584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752480" y="2895840"/>
                <a:ext cx="75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274356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52480" y="2590920"/>
                <a:ext cx="15192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602000" y="29718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289548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8160" y="1828800"/>
            <a:ext cx="683640" cy="749160"/>
            <a:chOff x="2288160" y="1828800"/>
            <a:chExt cx="683640" cy="749160"/>
          </a:xfrm>
        </p:grpSpPr>
        <p:grpSp>
          <p:nvGrpSpPr>
            <p:cNvPr id="127" name=""/>
            <p:cNvGrpSpPr/>
            <p:nvPr/>
          </p:nvGrpSpPr>
          <p:grpSpPr>
            <a:xfrm>
              <a:off x="2438280" y="1828800"/>
              <a:ext cx="304920" cy="457200"/>
              <a:chOff x="2438280" y="1828800"/>
              <a:chExt cx="304920" cy="457200"/>
            </a:xfrm>
          </p:grpSpPr>
          <p:sp>
            <p:nvSpPr>
              <p:cNvPr id="128" name=""/>
              <p:cNvSpPr/>
              <p:nvPr/>
            </p:nvSpPr>
            <p:spPr>
              <a:xfrm>
                <a:off x="2590560" y="19814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90560" y="213372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514240" y="21337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38280" y="1981440"/>
                <a:ext cx="3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14600" y="1828800"/>
                <a:ext cx="15228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288160" y="22096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133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97680" y="2514600"/>
            <a:ext cx="607680" cy="749160"/>
            <a:chOff x="6097680" y="2514600"/>
            <a:chExt cx="607680" cy="749160"/>
          </a:xfrm>
        </p:grpSpPr>
        <p:grpSp>
          <p:nvGrpSpPr>
            <p:cNvPr id="136" name=""/>
            <p:cNvGrpSpPr/>
            <p:nvPr/>
          </p:nvGrpSpPr>
          <p:grpSpPr>
            <a:xfrm>
              <a:off x="6172200" y="2514600"/>
              <a:ext cx="304560" cy="457200"/>
              <a:chOff x="6172200" y="2514600"/>
              <a:chExt cx="304560" cy="457200"/>
            </a:xfrm>
          </p:grpSpPr>
          <p:sp>
            <p:nvSpPr>
              <p:cNvPr id="137" name=""/>
              <p:cNvSpPr/>
              <p:nvPr/>
            </p:nvSpPr>
            <p:spPr>
              <a:xfrm>
                <a:off x="6324120" y="26672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324120" y="28195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6248160" y="2819520"/>
                <a:ext cx="75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72200" y="266724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248160" y="2514600"/>
                <a:ext cx="15192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6097680" y="2895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76760" y="28191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345200" y="2514600"/>
            <a:ext cx="607680" cy="749160"/>
            <a:chOff x="4345200" y="2514600"/>
            <a:chExt cx="607680" cy="749160"/>
          </a:xfrm>
        </p:grpSpPr>
        <p:grpSp>
          <p:nvGrpSpPr>
            <p:cNvPr id="145" name=""/>
            <p:cNvGrpSpPr/>
            <p:nvPr/>
          </p:nvGrpSpPr>
          <p:grpSpPr>
            <a:xfrm>
              <a:off x="4419720" y="2514600"/>
              <a:ext cx="304560" cy="457200"/>
              <a:chOff x="4419720" y="2514600"/>
              <a:chExt cx="304560" cy="457200"/>
            </a:xfrm>
          </p:grpSpPr>
          <p:sp>
            <p:nvSpPr>
              <p:cNvPr id="146" name=""/>
              <p:cNvSpPr/>
              <p:nvPr/>
            </p:nvSpPr>
            <p:spPr>
              <a:xfrm>
                <a:off x="4571640" y="26672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71640" y="28195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4495680" y="2819520"/>
                <a:ext cx="7560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19720" y="2667240"/>
                <a:ext cx="30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95680" y="2514600"/>
                <a:ext cx="15192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4345200" y="2895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24280" y="28191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774560" y="1828800"/>
            <a:ext cx="683640" cy="749160"/>
            <a:chOff x="7774560" y="1828800"/>
            <a:chExt cx="683640" cy="749160"/>
          </a:xfrm>
        </p:grpSpPr>
        <p:grpSp>
          <p:nvGrpSpPr>
            <p:cNvPr id="154" name=""/>
            <p:cNvGrpSpPr/>
            <p:nvPr/>
          </p:nvGrpSpPr>
          <p:grpSpPr>
            <a:xfrm>
              <a:off x="7924680" y="1828800"/>
              <a:ext cx="304920" cy="457200"/>
              <a:chOff x="7924680" y="1828800"/>
              <a:chExt cx="304920" cy="457200"/>
            </a:xfrm>
          </p:grpSpPr>
          <p:sp>
            <p:nvSpPr>
              <p:cNvPr id="155" name=""/>
              <p:cNvSpPr/>
              <p:nvPr/>
            </p:nvSpPr>
            <p:spPr>
              <a:xfrm>
                <a:off x="8076960" y="19814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76960" y="213372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8000640" y="21337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4680" y="1981440"/>
                <a:ext cx="3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01000" y="1828800"/>
                <a:ext cx="15228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7774560" y="22096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29600" y="2133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269240" y="1828800"/>
            <a:ext cx="683640" cy="749160"/>
            <a:chOff x="4269240" y="1828800"/>
            <a:chExt cx="683640" cy="749160"/>
          </a:xfrm>
        </p:grpSpPr>
        <p:grpSp>
          <p:nvGrpSpPr>
            <p:cNvPr id="163" name=""/>
            <p:cNvGrpSpPr/>
            <p:nvPr/>
          </p:nvGrpSpPr>
          <p:grpSpPr>
            <a:xfrm>
              <a:off x="4419360" y="1828800"/>
              <a:ext cx="304920" cy="457200"/>
              <a:chOff x="4419360" y="1828800"/>
              <a:chExt cx="304920" cy="45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4571640" y="19814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71640" y="2133720"/>
                <a:ext cx="7632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495320" y="2133720"/>
                <a:ext cx="7596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19360" y="1981440"/>
                <a:ext cx="304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95680" y="1828800"/>
                <a:ext cx="152280" cy="1526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269240" y="22096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24280" y="213372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525680" y="32767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327672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S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31560" y="327672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you S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191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Also: Rubberb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Game Rules can Hide Latenc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it or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will have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reckoning can’t always mask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game’s rules to hide la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iz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still, give immediate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 it in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discrete cho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Bandwidth Limi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ms: 28k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ent-Server: use it 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-to-All, 5 players: 7 kbps per fri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me server as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costs $1.00/G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8kbps * 80 hours / Month = 1 GB /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igher-Level Communicatio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PI style mess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Procedur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Procedure S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te Method S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Objects with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BA 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-Expr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-Expressions +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ompress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ZLI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The obvious thing to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y usef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uffman with fixed tables (nonadapt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Multi-Session compression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Custom compression (ie, Van Jacobs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heating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ypes of Che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uthoritative cl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nformation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utomation / B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Core anti-cheating princi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Decide early – open play or closed pl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ever Trust Client… so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ever Xmit more than Client can see… sor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s obscurity secur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aking it harder to 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comman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-sensitiv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ng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-Upd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 cheat det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issues – open sourc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Latency Limit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 Latency: 1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Latenc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m: 120 ms x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disconnects: 1 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Lat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e I/O on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bage collection on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ads to eliminate processing late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CP: Sliding Window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At any given moment, transmitting a “wind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 other words, a range of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Range is typically 10 packets (ie, packets 33-4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f one is ack’d, stop retransmitting that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If first one is ack’d, move up th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Design Heuristic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fast to s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long to wait to retrans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many to ack at o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How big to make th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Optimize for bandwidth or latenc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otocol Option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Standard T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Stream 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Optimized for bandwidth, not la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Homebrewed Sliding Windows over UD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ike TCP, only optimized for lat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Doesn’t have umpteen years of experience behind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Dang routers tend to throw out UDP packets</a:t>
            </a:r>
            <a:br>
              <a:rPr sz="1800"/>
            </a:b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Tweaked TC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Use OS calls to adjust algorithm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Turn off the Na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djust window siz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DP, but not sliding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Can use multic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ransmitting Full Stat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xample: XPil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lient-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rver – multicasts UDP pa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ach packet contains entire state of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Client – sends UDP packets to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Each packet contains state of keybo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ransmitting State Updat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xample: Quake I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ransmit Diffs inst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286000"/>
            <a:ext cx="3733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1=T0+diff1,diff2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2=T1+diff3,diff4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3=T2+diff5,diff6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4=T2+diff5,diff6,diff7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5=T2+diff5,diff6,diff7,diff8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6=T5+diff9,diff10…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7=T6+diff11,diff12… (packet lo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8=T6+diff11,diff12,diff13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2286000"/>
            <a:ext cx="388620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1 O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2 O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3 OK (packet lo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4 OK (packet los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5 O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6 OK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8 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181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Data structures needed heav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What if diffs too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05560" indent="-2055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ransmitting Command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Age of Emp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lients send commands to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lients simulate effects of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ordering must be consis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s deterministic s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dom numbers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ating points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low bandwidth requi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 Topology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-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y a price in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tage in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r to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-to-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Lat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one needs good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brid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4:57:53Z</dcterms:created>
  <dc:creator> </dc:creator>
  <dc:description/>
  <dc:language>en-US</dc:language>
  <cp:lastModifiedBy> </cp:lastModifiedBy>
  <dcterms:modified xsi:type="dcterms:W3CDTF">2005-02-02T22:47:20Z</dcterms:modified>
  <cp:revision>10</cp:revision>
  <dc:subject/>
  <dc:title>Networking for (small) Games</dc:title>
</cp:coreProperties>
</file>