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6437F-8BCA-4950-9381-B7C30FBC3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0964A-C632-4AEC-8B49-740FF3878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A3347-96B6-4A38-9233-04690DD7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7655D-2BD0-4C13-AD5A-7B07E812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3E266-86C5-4965-A640-D202E40AF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12CB-C37B-4CC3-BC43-CF21D5FD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C68C-246F-45BC-AB14-B30248EE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CAF7-123D-4689-AD92-59AD8AB3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0F8B2-0308-4B44-8C68-27EE9B74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F35AC-A088-4D1E-BF11-78068903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B063-D809-4564-857E-C43C0C542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BF19C-66AC-4FED-8C1C-147988A8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A519B-65A2-40D8-8595-9768F5DF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54864-41B0-4BFF-9C39-D7DEEFD3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EE17-F3F0-43D9-8E5D-606D51AA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85FD-60BF-4004-9609-E0FD92705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CF67-94BD-4517-8AA2-0F16F8F77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8F723-878C-4C41-BD5C-D923A373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99AF3-FA43-4030-8186-C5584ECE3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5B67E-A3C5-4711-8303-386DE5EEC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549D4-D79D-4DBB-A22B-E885EAB8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7C4D-CCEE-4638-9DDC-20DE3E81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DC90B-624F-4403-89F0-20309336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458FA-1A09-4DA8-AB17-107A31CA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41081-6D12-483F-B02F-A5FFC048CC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057B-60E5-41CA-A8CD-2E59832BD9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ump Mapp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5181480" y="1904760"/>
            <a:ext cx="3733920" cy="457560"/>
            <a:chOff x="5181480" y="1904760"/>
            <a:chExt cx="3733920" cy="457560"/>
          </a:xfrm>
        </p:grpSpPr>
        <p:sp>
          <p:nvSpPr>
            <p:cNvPr id="515" name=""/>
            <p:cNvSpPr/>
            <p:nvPr/>
          </p:nvSpPr>
          <p:spPr>
            <a:xfrm>
              <a:off x="5181480" y="2362320"/>
              <a:ext cx="144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6629400" y="1942920"/>
              <a:ext cx="419040" cy="419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48440" y="1942920"/>
              <a:ext cx="419040" cy="419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467480" y="2362320"/>
              <a:ext cx="144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537192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54864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560052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57150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582912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59436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605772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61722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628632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64008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651492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52578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629400" y="2209680"/>
              <a:ext cx="7596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705360" y="2133720"/>
              <a:ext cx="7596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781680" y="2057400"/>
              <a:ext cx="7632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58000" y="1981080"/>
              <a:ext cx="7596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33960" y="1905120"/>
              <a:ext cx="7596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69608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78102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792468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80388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815328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82674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838188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84960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861048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87246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883908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75816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7391160" y="2209320"/>
              <a:ext cx="7596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7315200" y="2133360"/>
              <a:ext cx="7596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238880" y="2057400"/>
              <a:ext cx="7632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7162560" y="1980720"/>
              <a:ext cx="7596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7086600" y="1904760"/>
              <a:ext cx="7596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105520" y="3885840"/>
            <a:ext cx="3733200" cy="152640"/>
            <a:chOff x="5105520" y="3885840"/>
            <a:chExt cx="3733200" cy="152640"/>
          </a:xfrm>
        </p:grpSpPr>
        <p:sp>
          <p:nvSpPr>
            <p:cNvPr id="554" name=""/>
            <p:cNvSpPr/>
            <p:nvPr/>
          </p:nvSpPr>
          <p:spPr>
            <a:xfrm>
              <a:off x="5105520" y="40384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553080" y="4038480"/>
              <a:ext cx="418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972120" y="4038480"/>
              <a:ext cx="418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391160" y="40384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52959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541008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5245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63868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7531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86728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9817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609588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2103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32448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4389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518148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553080" y="3936960"/>
              <a:ext cx="75960" cy="1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629400" y="3936960"/>
              <a:ext cx="75960" cy="1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705360" y="3936960"/>
              <a:ext cx="75960" cy="1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781680" y="3936960"/>
              <a:ext cx="75960" cy="1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58000" y="3936960"/>
              <a:ext cx="75960" cy="1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6197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73424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8483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6284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769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19144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3055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42004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5341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64864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87627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750564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7315200" y="3936960"/>
              <a:ext cx="75960" cy="1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7238880" y="3936960"/>
              <a:ext cx="75960" cy="1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7162560" y="3936960"/>
              <a:ext cx="75960" cy="1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7086600" y="3936960"/>
              <a:ext cx="75960" cy="1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010280" y="3936960"/>
              <a:ext cx="75960" cy="1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5181480" y="2666880"/>
            <a:ext cx="3733560" cy="380880"/>
            <a:chOff x="5181480" y="2666880"/>
            <a:chExt cx="3733560" cy="380880"/>
          </a:xfrm>
        </p:grpSpPr>
        <p:sp>
          <p:nvSpPr>
            <p:cNvPr id="593" name=""/>
            <p:cNvSpPr/>
            <p:nvPr/>
          </p:nvSpPr>
          <p:spPr>
            <a:xfrm>
              <a:off x="5181480" y="2666880"/>
              <a:ext cx="1477440" cy="38088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58920" y="2666880"/>
              <a:ext cx="389160" cy="380880"/>
            </a:xfrm>
            <a:prstGeom prst="rect">
              <a:avLst/>
            </a:prstGeom>
            <a:solidFill>
              <a:srgbClr val="5252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48080" y="2666880"/>
              <a:ext cx="388800" cy="3808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437240" y="2666880"/>
              <a:ext cx="1477800" cy="38088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1219320" y="3809880"/>
            <a:ext cx="38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t polygon, fake normals appli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5105520" y="4343400"/>
            <a:ext cx="3733200" cy="380880"/>
            <a:chOff x="5105520" y="4343400"/>
            <a:chExt cx="3733200" cy="380880"/>
          </a:xfrm>
        </p:grpSpPr>
        <p:sp>
          <p:nvSpPr>
            <p:cNvPr id="599" name=""/>
            <p:cNvSpPr/>
            <p:nvPr/>
          </p:nvSpPr>
          <p:spPr>
            <a:xfrm>
              <a:off x="5105520" y="4343400"/>
              <a:ext cx="1477440" cy="38088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82960" y="4343400"/>
              <a:ext cx="388800" cy="380880"/>
            </a:xfrm>
            <a:prstGeom prst="rect">
              <a:avLst/>
            </a:prstGeom>
            <a:solidFill>
              <a:srgbClr val="5252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972120" y="4343400"/>
              <a:ext cx="388440" cy="3808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60920" y="4343400"/>
              <a:ext cx="1477800" cy="38088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2819520" y="4343400"/>
            <a:ext cx="22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t with fake norm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752480" y="2133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 with bump, normals sh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276720" y="2666880"/>
            <a:ext cx="18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dinary ligh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407000" y="1295280"/>
            <a:ext cx="51732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698960" y="14479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 l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523880" y="55627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“normal map” is a texture containing these fake norm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772400" y="762120"/>
            <a:ext cx="609480" cy="6094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angent Vec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28600" y="1295280"/>
            <a:ext cx="4648320" cy="17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ry vertex h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position (the usual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- texcoords (the usual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- normal (the usual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- tangent (pointing in +S direction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- binormal (pointing in +T direc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338440" y="1600200"/>
            <a:ext cx="34772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l, Tangent, Binormal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t form orthonormal bas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 Loader has to comput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ngent and binormal from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ure coordinates and 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1"/>
          <a:stretch/>
        </p:blipFill>
        <p:spPr>
          <a:xfrm>
            <a:off x="0" y="3902040"/>
            <a:ext cx="69724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angent Vec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4724640" cy="200196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304920" y="1143000"/>
            <a:ext cx="510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, it is well-defined wh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ngent (+S) and binormal (+T) should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343400" y="38862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, not well defined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oximations look f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2"/>
          <a:stretch/>
        </p:blipFill>
        <p:spPr>
          <a:xfrm>
            <a:off x="3581280" y="4572000"/>
            <a:ext cx="518184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" descr=""/>
          <p:cNvPicPr/>
          <p:nvPr/>
        </p:nvPicPr>
        <p:blipFill>
          <a:blip r:embed="rId1"/>
          <a:stretch/>
        </p:blipFill>
        <p:spPr>
          <a:xfrm>
            <a:off x="3809880" y="3886200"/>
            <a:ext cx="4953240" cy="2062080"/>
          </a:xfrm>
          <a:prstGeom prst="rect">
            <a:avLst/>
          </a:prstGeom>
          <a:ln w="0">
            <a:noFill/>
          </a:ln>
        </p:spPr>
      </p:pic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angent Vec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419720" cy="183024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762120" y="160020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case of mirroring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no approxim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64640" y="4191120"/>
            <a:ext cx="323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enter vertex has no idea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ich way tangent (+S) should 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5029200" y="4800600"/>
            <a:ext cx="10666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720240" y="6095880"/>
            <a:ext cx="234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vertex think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ngent (+S) points ea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H="1" flipV="1">
            <a:off x="6400440" y="4800600"/>
            <a:ext cx="10666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566040" y="6095880"/>
            <a:ext cx="19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vertex think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ngent (+S) is w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48320" y="320040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uch cases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litting mesh solves i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lculating Tangent Vec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82320" y="4495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685800" y="3048120"/>
            <a:ext cx="1752480" cy="1523880"/>
            <a:chOff x="685800" y="3048120"/>
            <a:chExt cx="1752480" cy="1523880"/>
          </a:xfrm>
        </p:grpSpPr>
        <p:sp>
          <p:nvSpPr>
            <p:cNvPr id="808" name=""/>
            <p:cNvSpPr/>
            <p:nvPr/>
          </p:nvSpPr>
          <p:spPr>
            <a:xfrm>
              <a:off x="685800" y="3048120"/>
              <a:ext cx="1752480" cy="152388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0" y="960"/>
                  </a:moveTo>
                  <a:lnTo>
                    <a:pt x="576" y="0"/>
                  </a:lnTo>
                  <a:lnTo>
                    <a:pt x="1104" y="576"/>
                  </a:lnTo>
                  <a:lnTo>
                    <a:pt x="0" y="96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449000" y="373392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1372680" y="2743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363400" y="38098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33520" y="1143000"/>
            <a:ext cx="807696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ed to calculate tangent at vertex 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amine a single triangle attached to vertex V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k: “which way increases S texcoord, not T texcoord?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200400" y="2773440"/>
            <a:ext cx="5257800" cy="19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(ds1,dt1) be change in texcoords from V to V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(ds2,dt2) be change in texcoords from V to V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ve: x*(ds1,dt1)+y*(ds2,dt2) = (1,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(dx1,dy1,dz1) be change in position from V to V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(dx2,dy2,dz2) be change in position from V to V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gent = x*(dx1,dy1,dz1) + y*(dx2,dy2,dz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143000" y="5334120"/>
            <a:ext cx="7391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binormal, ask “which way increases T texcoord, not S texcoord” instea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ry triangle attached to V will give you a different tangent. Average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ulting average is an approximation. Not quite orthonormal. Orthonormaliz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angent Space and Anim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7200" y="1600200"/>
            <a:ext cx="807732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an animation package rotates a limb, it rotates the normals too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, it also needs to rotate the tangents and binormal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 uses same rotation matrix as was used for the norm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ce the (tangent, binormal, normal) vectors formed an orthonormal basis before, they’re still an orthonormal basis after rot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se of T,B,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57200" y="1371600"/>
            <a:ext cx="8077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ve our three vectors: (tangent, binormal, norm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gether, (T,B,N) form “tangent-space to world-space rotation matrix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is what pixel shader needs to d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ad the texture containing the tangent-space fake norm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convert these to world-space using the (T,B,N) matri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calculate WorldSpaceFakeNorma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S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RNING: pixel shader missing an important step. See next sli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polating T,B,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57200" y="1371600"/>
            <a:ext cx="807732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ember: (T,B,N) are stored per-verte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ember: Video chip always interpolates vertex attribu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ember: Matrices interpolate bad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is what pixel shader really needs to d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normalize (T,B,N) </a:t>
            </a: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his is n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ad the texture containing the tangent-space fake 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convert these to world-space using the (T,B,N) matri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calculate RotatedFakeNorma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S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pixel shader is very long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low Tangent-Space Bumpmap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57200" y="1371600"/>
            <a:ext cx="822960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T nlensq, N, 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renormalize norma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SQ rsqnlensq, nlensq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 N, N, rsqnlensq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T tlensq, T, 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renormalize tangent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SQ rsqtlensq, tlensq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 T, T, rsqtlens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PD B, N, 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calculate binormal using cross-product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 B, B, handednes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X fakenormal,texcoord0,texture[0]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look up fake normal from normal 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T wsfake.x, fakenormal, 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transform fake normal into world-spac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T wsfake.y, fakenormal, B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T wsfake.z, fakenormal, 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T finalcolor, wsfake, wsligh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do the lighting dot-produ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angent Space Speedhac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09480" y="12193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ember this speedhack I told you to forget?  Unforget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286000" y="220968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363760" y="205740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ght v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286000" y="3352320"/>
            <a:ext cx="13716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659400" y="31240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71960" y="2666880"/>
            <a:ext cx="182808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898720" y="2666880"/>
            <a:ext cx="11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ta = 80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136600" y="3657600"/>
            <a:ext cx="2603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ke can rotated 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CW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regular w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337000" y="3657600"/>
            <a:ext cx="2603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ke can rotated 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CW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cheap w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5486400" y="220968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716440" y="205740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ght v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486400" y="35812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936120" y="33526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876920" y="2666880"/>
            <a:ext cx="15235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251760" y="2743200"/>
            <a:ext cx="11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ta = 80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09480" y="4648320"/>
            <a:ext cx="7391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hack works just as well with tangent-space bump mapp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, it’s even more useful, because tangent-space bump mapping without it is so expens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ast Tangent-Space Bumpmap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09480" y="1143000"/>
            <a:ext cx="7848720" cy="55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*with* the speedhack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DO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rotate normal from tangent-space into world-spa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rotate light from world-space into tangent-spa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vertex shader, calculate tangent-space light vector (TS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puts are (T,B,N) and world-space light vector (WSLigh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SLight = (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· WSLight, B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· WSLight, N · WSLigh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pixel shader, do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normalize TSLight – this is just a vector – quick and eas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ad the texture containing the tangent-space fake 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calculate FakeNorma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S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pixel shader is nice and short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toring Normals in Textu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33520" y="1905120"/>
            <a:ext cx="79246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two different formats for Normal m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 space normal m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ngent space normal m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body uses model space normal ma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ever, tangent space is more comple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work up to it increment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ast Tangent-Space Bumpmap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57200" y="1371600"/>
            <a:ext cx="82296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T lensq, TSLight, TSLigh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renormalize TSLight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SQ rsqlensq, lensq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 TSLight, TSLight, rsqlensq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X fakenormal,texcoord0,texture[0]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look up fake normal from normal 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T finalcolor, fakenormal, tsligh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do the lighting dot-produ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33520" y="3657600"/>
            <a:ext cx="8001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 ALU instructions instead of Twelve – Big improve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think that somebody out there has a 2-instruction renormaliz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dding Specular Highligh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57200" y="13716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remember your OpenG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733920" y="3733920"/>
            <a:ext cx="2514600" cy="647640"/>
          </a:xfrm>
          <a:custGeom>
            <a:avLst/>
            <a:gdLst/>
            <a:ahLst/>
            <a:rect l="l" t="t" r="r" b="b"/>
            <a:pathLst>
              <a:path w="1592" h="968">
                <a:moveTo>
                  <a:pt x="240" y="312"/>
                </a:moveTo>
                <a:cubicBezTo>
                  <a:pt x="312" y="208"/>
                  <a:pt x="432" y="48"/>
                  <a:pt x="624" y="24"/>
                </a:cubicBezTo>
                <a:cubicBezTo>
                  <a:pt x="816" y="0"/>
                  <a:pt x="1264" y="24"/>
                  <a:pt x="1392" y="168"/>
                </a:cubicBezTo>
                <a:cubicBezTo>
                  <a:pt x="1520" y="312"/>
                  <a:pt x="1592" y="808"/>
                  <a:pt x="1392" y="888"/>
                </a:cubicBezTo>
                <a:cubicBezTo>
                  <a:pt x="1192" y="968"/>
                  <a:pt x="384" y="744"/>
                  <a:pt x="192" y="648"/>
                </a:cubicBezTo>
                <a:cubicBezTo>
                  <a:pt x="0" y="552"/>
                  <a:pt x="168" y="416"/>
                  <a:pt x="240" y="312"/>
                </a:cubicBezTo>
                <a:close/>
              </a:path>
            </a:pathLst>
          </a:custGeom>
          <a:solidFill>
            <a:srgbClr val="66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5029200" y="2666880"/>
            <a:ext cx="14479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2895480" y="2209680"/>
            <a:ext cx="761760" cy="761760"/>
            <a:chOff x="2895480" y="2209680"/>
            <a:chExt cx="761760" cy="761760"/>
          </a:xfrm>
        </p:grpSpPr>
        <p:sp>
          <p:nvSpPr>
            <p:cNvPr id="850" name=""/>
            <p:cNvSpPr/>
            <p:nvPr/>
          </p:nvSpPr>
          <p:spPr>
            <a:xfrm>
              <a:off x="2895480" y="2209680"/>
              <a:ext cx="761760" cy="76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200040" y="2514240"/>
              <a:ext cx="381240" cy="38124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352680" y="26668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3" name=""/>
          <p:cNvSpPr/>
          <p:nvPr/>
        </p:nvSpPr>
        <p:spPr>
          <a:xfrm flipH="1" flipV="1">
            <a:off x="3657600" y="2895120"/>
            <a:ext cx="13716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98000" y="3048120"/>
            <a:ext cx="110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vecto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the ey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793120" y="3124080"/>
            <a:ext cx="111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 = vecto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the 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H="1" flipV="1">
            <a:off x="4952880" y="2286000"/>
            <a:ext cx="763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313160" y="1676520"/>
            <a:ext cx="13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lfangle =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verage(E,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453560" y="380988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y 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400800" y="2133720"/>
            <a:ext cx="838080" cy="8380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33520" y="4800600"/>
            <a:ext cx="77724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ndard OpenGL rul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ular = (Halfangl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· Normal)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SpecPow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here SpecPow is a magic constant under your control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penGL does this calculation at every vertex.  If you want, you can calculate it at every pixel instead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n your bumps will have specular highlights on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dding Specular Highligh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09480" y="1143000"/>
            <a:ext cx="7848720" cy="42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vertex shader, calculate tangent-space halfangle (TSHal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puts are (T,B,N) and world-space light vector (WSLigh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SHalf = (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· WSHalf, B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· WSHalf, N · WSHalf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pixel shader, do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normalize TSHalf – this is just a vector – quick and eas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ad the texture containing the tangent-space fake 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calculate (FakeNorma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SHalf)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SpecPo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Add this to the total inten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nvironment-Mapped Bump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09480" y="1523880"/>
            <a:ext cx="7848720" cy="46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rn video chips have special hardware for cube m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“cube map” is essentially a sky box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iven a cube map (six textures forming a cube, viewed from insi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iven an eye vector originating in center of cub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s up a texel in 1 instr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BM: shiny bumpy surface which reflects sky b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assic example: ripply wa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ensive. Can’t optimize it the way we optimized this other stuff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lementation on the next sli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nvironment-Mapped Bump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09480" y="1219320"/>
            <a:ext cx="784872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tex data needs to inclu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T, B, N) vectors – explicit, not the speedh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ye Vector – a vector pointing from the vertex toward the cam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xel Shad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normalize Eye, T, B, 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ad the texture containing the tangent-space fake 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convert fake normal to world-space using the (T,B,N) matri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calculate reflection of eye vector using world-space fake 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I’ll go into this more on the next sli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look up reflected eye vector in the cube-map sky bo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ks like bumpy chrome unless you mix it with something else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1371600" y="1981080"/>
            <a:ext cx="6553080" cy="419112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Reflection Vecto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33520" y="121932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t pixel shader needs to reflect the eye ve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the world-space fake norm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2362320" y="3200400"/>
            <a:ext cx="761760" cy="761760"/>
            <a:chOff x="2362320" y="3200400"/>
            <a:chExt cx="761760" cy="761760"/>
          </a:xfrm>
        </p:grpSpPr>
        <p:sp>
          <p:nvSpPr>
            <p:cNvPr id="871" name=""/>
            <p:cNvSpPr/>
            <p:nvPr/>
          </p:nvSpPr>
          <p:spPr>
            <a:xfrm>
              <a:off x="2362320" y="3200400"/>
              <a:ext cx="761760" cy="76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666880" y="3504960"/>
              <a:ext cx="381240" cy="38124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81952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3048120" y="3886200"/>
            <a:ext cx="1981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 flipV="1">
            <a:off x="4343040" y="3048120"/>
            <a:ext cx="6858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202560" y="44197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y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45960" y="62485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inued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497840" y="3276720"/>
            <a:ext cx="161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world-spac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ke 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029200" y="4876920"/>
            <a:ext cx="76320" cy="75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106240" y="480060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pix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1371600" y="1981080"/>
            <a:ext cx="6553080" cy="419112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Reflection Vecto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33520" y="121932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t pixel shader needs to reflect the eye ve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the world-space fake norm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2362320" y="3200400"/>
            <a:ext cx="761760" cy="761760"/>
            <a:chOff x="2362320" y="3200400"/>
            <a:chExt cx="761760" cy="761760"/>
          </a:xfrm>
        </p:grpSpPr>
        <p:sp>
          <p:nvSpPr>
            <p:cNvPr id="885" name=""/>
            <p:cNvSpPr/>
            <p:nvPr/>
          </p:nvSpPr>
          <p:spPr>
            <a:xfrm>
              <a:off x="2362320" y="3200400"/>
              <a:ext cx="761760" cy="76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666880" y="3504960"/>
              <a:ext cx="381240" cy="38124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81952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3048120" y="3886200"/>
            <a:ext cx="1981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4343040" y="3048120"/>
            <a:ext cx="6858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202560" y="44197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y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5029200" y="419076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3200400" y="487620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rot="20437200">
            <a:off x="3582720" y="4953240"/>
            <a:ext cx="314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normal implies the existenc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f a mirror, right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5029200" y="1981080"/>
            <a:ext cx="9144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490720" y="3276720"/>
            <a:ext cx="240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reflected eye vecto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hould go this way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70160" y="1981080"/>
            <a:ext cx="160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hit the sk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x he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1371600" y="1981080"/>
            <a:ext cx="6553080" cy="419112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Reflection Vecto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33520" y="121932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t pixel shader needs to reflect the eye ve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the world-space fake norm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2362320" y="3200400"/>
            <a:ext cx="761760" cy="761760"/>
            <a:chOff x="2362320" y="3200400"/>
            <a:chExt cx="761760" cy="761760"/>
          </a:xfrm>
        </p:grpSpPr>
        <p:sp>
          <p:nvSpPr>
            <p:cNvPr id="901" name=""/>
            <p:cNvSpPr/>
            <p:nvPr/>
          </p:nvSpPr>
          <p:spPr>
            <a:xfrm>
              <a:off x="2362320" y="3200400"/>
              <a:ext cx="761760" cy="76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666880" y="3504960"/>
              <a:ext cx="381240" cy="38124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81952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3048120" y="3886200"/>
            <a:ext cx="1981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H="1" flipV="1">
            <a:off x="4343040" y="3048120"/>
            <a:ext cx="6858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202560" y="44197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y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5029200" y="419076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3200400" y="487620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5029200" y="1981080"/>
            <a:ext cx="9144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352680" y="5791320"/>
            <a:ext cx="5181840" cy="707760"/>
          </a:xfrm>
          <a:prstGeom prst="rect">
            <a:avLst/>
          </a:prstGeom>
          <a:solidFill>
            <a:srgbClr val="dfde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component = WSFakeNorm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lection = eye + WSFakeNormal * ncomponent * 2.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odel Space Normal Map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33520" y="1143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head view of dented coke can, showing normal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219320" y="2133720"/>
            <a:ext cx="1371600" cy="13716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905120" y="1981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754280" y="1600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2438280" y="2133360"/>
            <a:ext cx="15264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516400" y="1828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745000" y="2590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1219320" y="33526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905120" y="35053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754280" y="3657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286000" y="34290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3760" y="35053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7240" y="34290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066680" y="28195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87240" y="25909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219320" y="213372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3920" y="18288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85800" y="5334120"/>
            <a:ext cx="7772400" cy="759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33526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ylindrically map a texture onto can,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py normals from can to tex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ffline processing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6934320" y="4343400"/>
            <a:ext cx="3808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35320" y="5029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345200" y="5029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440080" y="5029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325920" y="502920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231400" y="5029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373400" y="5029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354480" y="50292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259240" y="50292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317000" y="50292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438280" y="3048120"/>
            <a:ext cx="228600" cy="152280"/>
          </a:xfrm>
          <a:custGeom>
            <a:avLst/>
            <a:gdLst/>
            <a:ahLst/>
            <a:rect l="l" t="t" r="r" b="b"/>
            <a:pathLst>
              <a:path w="144" h="96">
                <a:moveTo>
                  <a:pt x="48" y="0"/>
                </a:moveTo>
                <a:lnTo>
                  <a:pt x="144" y="96"/>
                </a:lnTo>
                <a:lnTo>
                  <a:pt x="0" y="96"/>
                </a:lnTo>
                <a:lnTo>
                  <a:pt x="48" y="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19320" y="2133720"/>
            <a:ext cx="1371600" cy="1371600"/>
          </a:xfrm>
          <a:prstGeom prst="ellipse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n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832120" y="5029200"/>
            <a:ext cx="32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054240" y="5029200"/>
            <a:ext cx="24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2590920" y="304776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603520" y="2819520"/>
            <a:ext cx="32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590920" y="32004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520720" y="3200400"/>
            <a:ext cx="24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2514600" y="5562720"/>
            <a:ext cx="6094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40960" y="586728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 the bu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221720" y="601992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now have a model space normal m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sing the Normal Map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1143000"/>
            <a:ext cx="815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low-poly version of the can: I left out the d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, I apply the model space normal map from the previous slid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125520" y="2057400"/>
            <a:ext cx="2390760" cy="2425680"/>
            <a:chOff x="3125520" y="2057400"/>
            <a:chExt cx="2390760" cy="2425680"/>
          </a:xfrm>
        </p:grpSpPr>
        <p:sp>
          <p:nvSpPr>
            <p:cNvPr id="657" name=""/>
            <p:cNvSpPr/>
            <p:nvPr/>
          </p:nvSpPr>
          <p:spPr>
            <a:xfrm>
              <a:off x="3657600" y="2590920"/>
              <a:ext cx="1371600" cy="137160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k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343400" y="2438280"/>
              <a:ext cx="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192920" y="2057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4876920" y="259056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954680" y="22860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29200" y="32767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83280" y="3048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3657600" y="3809880"/>
              <a:ext cx="15228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343400" y="396252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92920" y="4114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724280" y="3886200"/>
              <a:ext cx="15264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802040" y="3962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25520" y="388620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05320" y="32767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25520" y="304812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657600" y="259092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202200" y="228600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5029200" y="3429000"/>
              <a:ext cx="7632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041800" y="3276720"/>
              <a:ext cx="32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952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959360" y="3581280"/>
              <a:ext cx="247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609480" y="4648320"/>
            <a:ext cx="7925040" cy="19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ite a pixel shader, accepts normal map and world-space light as inpu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xel shader reads the texture containing the fake norm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xel shader calculates FakeNorma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S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all lighting now done by pixel unit, not by vertex 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: illusion of dent, without the polyg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otating the Ca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57200" y="12193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ay some guy picks up the can and rotates it 45 degrees clockwi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105520" y="2590920"/>
            <a:ext cx="3429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any OpenGL guru knows, when you rotate an object, you have to rotate normals to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stored, fake normals also need to be rota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3885840" y="3124080"/>
            <a:ext cx="12193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7200" y="4724280"/>
            <a:ext cx="77724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rotate the normals in the pixel shad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ad texture containing fake norm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form the fake normal using coke can’s rotation matri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w compute RotatedFakeNorma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S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quite a few extra pixel shader instructions: slo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446120" y="1906560"/>
            <a:ext cx="2425320" cy="2390760"/>
            <a:chOff x="1446120" y="1906560"/>
            <a:chExt cx="2425320" cy="2390760"/>
          </a:xfrm>
        </p:grpSpPr>
        <p:sp>
          <p:nvSpPr>
            <p:cNvPr id="685" name=""/>
            <p:cNvSpPr/>
            <p:nvPr/>
          </p:nvSpPr>
          <p:spPr>
            <a:xfrm rot="5400000">
              <a:off x="1966680" y="2438640"/>
              <a:ext cx="1371600" cy="137124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k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3338640" y="3124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5400000">
              <a:off x="3514680" y="2962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186360" y="3657960"/>
              <a:ext cx="1519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5400000">
              <a:off x="3210120" y="38005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52480" y="38102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5400000">
              <a:off x="2530440" y="39466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67400" y="243864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1814760" y="3124440"/>
              <a:ext cx="151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5400000">
              <a:off x="1463760" y="2956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1891080" y="3505320"/>
              <a:ext cx="15192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5400000">
              <a:off x="1539720" y="364176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5400000">
              <a:off x="1584000" y="199692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652480" y="228636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5400000">
              <a:off x="2498400" y="19209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3186360" y="2438640"/>
              <a:ext cx="1519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5400000">
              <a:off x="3178080" y="207972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424600" y="3810240"/>
              <a:ext cx="7596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5400000">
              <a:off x="2286000" y="3783240"/>
              <a:ext cx="32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2119680" y="3733920"/>
              <a:ext cx="151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5400000">
              <a:off x="2021040" y="3661200"/>
              <a:ext cx="247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heap Way to Rotate Normal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5720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doing lighting calculations, it’s the angle, theta, that matte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533520" y="16765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10920" y="144792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ght v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33520" y="30481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982880" y="28195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-380520" y="21337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146240" y="2133720"/>
            <a:ext cx="11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ta = 90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895480" y="1600200"/>
            <a:ext cx="57913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coke can has been rotated 10 degrees CCW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ls need to be rotated 10 degrees CC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st rotate light vector 10 degrees *clockwise* inste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ing angle theta will be the sam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rotation per coke can, instead of one per pix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60080" y="312408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ke can unrota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3048120" y="38862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125520" y="373392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ght v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3048120" y="5028840"/>
            <a:ext cx="13716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421520" y="48006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134080" y="4343400"/>
            <a:ext cx="182808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660840" y="4343400"/>
            <a:ext cx="11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ta = 80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98360" y="5334120"/>
            <a:ext cx="2603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ke can rotated 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CW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regular w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098760" y="5334120"/>
            <a:ext cx="2603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ke can rotated 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CW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cheap w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248520" y="388620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478560" y="373392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ght v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248520" y="52578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697880" y="50292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639040" y="4343400"/>
            <a:ext cx="15235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013520" y="4419720"/>
            <a:ext cx="11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ta = 80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212200" y="6248520"/>
            <a:ext cx="65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at I told you that, forget about it. It’s just an optimiz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What if Model is not Rigid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33520" y="1371600"/>
            <a:ext cx="80010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not one “global object rotation.” There are lots of local rot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re local rotation as 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rtex attribu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l rotation will be interpolated across polyg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Quaternions interpolate nicely. Maybe use quaternion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But matrices are cheaper. Maybe use rotation matrix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xel shader now needs t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normalize the local rot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ad the texture containing the fake norm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otate the fake normals using the local rot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calculate RotatedFakeNorma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S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Model Space Normal Maps: Ba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57200" y="1143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lem with this method, illustrat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905120" y="1828800"/>
            <a:ext cx="27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 poly model of brick wall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4724280" y="175212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029200" y="17524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248520" y="1752480"/>
            <a:ext cx="3045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6553080" y="175212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858000" y="17524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8077320" y="1752480"/>
            <a:ext cx="3045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724280" y="266688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36400" y="236232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py normals into model-space normal map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649760" y="2362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183280" y="2362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487840" y="2362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792760" y="2362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096960" y="2362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554520" y="2362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088040" y="2362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392960" y="2362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697880" y="2362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8002080" y="2362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33520" y="33526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ap this normal map around a bo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86000" y="3809880"/>
            <a:ext cx="2545920" cy="2546280"/>
            <a:chOff x="2286000" y="3809880"/>
            <a:chExt cx="2545920" cy="2546280"/>
          </a:xfrm>
        </p:grpSpPr>
        <p:sp>
          <p:nvSpPr>
            <p:cNvPr id="756" name=""/>
            <p:cNvSpPr/>
            <p:nvPr/>
          </p:nvSpPr>
          <p:spPr>
            <a:xfrm>
              <a:off x="2590560" y="4114800"/>
              <a:ext cx="1904760" cy="19051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2592000" y="3809880"/>
              <a:ext cx="1909800" cy="337320"/>
              <a:chOff x="2592000" y="3809880"/>
              <a:chExt cx="1909800" cy="337320"/>
            </a:xfrm>
          </p:grpSpPr>
          <p:sp>
            <p:nvSpPr>
              <p:cNvPr id="758" name=""/>
              <p:cNvSpPr/>
              <p:nvPr/>
            </p:nvSpPr>
            <p:spPr>
              <a:xfrm>
                <a:off x="2592000" y="380988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W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125160" y="380988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430080" y="380988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734640" y="380988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039200" y="3809880"/>
                <a:ext cx="46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4494600" y="4116240"/>
              <a:ext cx="337320" cy="1910160"/>
              <a:chOff x="4494600" y="4116240"/>
              <a:chExt cx="337320" cy="1910160"/>
            </a:xfrm>
          </p:grpSpPr>
          <p:sp>
            <p:nvSpPr>
              <p:cNvPr id="764" name=""/>
              <p:cNvSpPr/>
              <p:nvPr/>
            </p:nvSpPr>
            <p:spPr>
              <a:xfrm rot="5400000">
                <a:off x="4403520" y="420696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W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5400000">
                <a:off x="4499640" y="464436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5400000">
                <a:off x="4499640" y="494928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5400000">
                <a:off x="4499640" y="525420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5400000">
                <a:off x="4431960" y="5626440"/>
                <a:ext cx="46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2591640" y="6018840"/>
              <a:ext cx="1909800" cy="337320"/>
              <a:chOff x="2591640" y="6018840"/>
              <a:chExt cx="1909800" cy="337320"/>
            </a:xfrm>
          </p:grpSpPr>
          <p:sp>
            <p:nvSpPr>
              <p:cNvPr id="770" name=""/>
              <p:cNvSpPr/>
              <p:nvPr/>
            </p:nvSpPr>
            <p:spPr>
              <a:xfrm rot="10800000">
                <a:off x="3982320" y="601884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W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10800000">
                <a:off x="3641400" y="601884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10800000">
                <a:off x="3336480" y="601884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10800000">
                <a:off x="3031920" y="601884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10800000">
                <a:off x="2591640" y="6018840"/>
                <a:ext cx="46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2286000" y="4116240"/>
              <a:ext cx="337320" cy="1910160"/>
              <a:chOff x="2286000" y="4116240"/>
              <a:chExt cx="337320" cy="1910160"/>
            </a:xfrm>
          </p:grpSpPr>
          <p:sp>
            <p:nvSpPr>
              <p:cNvPr id="776" name=""/>
              <p:cNvSpPr/>
              <p:nvPr/>
            </p:nvSpPr>
            <p:spPr>
              <a:xfrm rot="16200000">
                <a:off x="2194920" y="559800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W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6200000">
                <a:off x="2291040" y="516060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16200000">
                <a:off x="2291040" y="485568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16200000">
                <a:off x="2291040" y="455076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16200000">
                <a:off x="2223360" y="4178880"/>
                <a:ext cx="46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1" name=""/>
          <p:cNvSpPr/>
          <p:nvPr/>
        </p:nvSpPr>
        <p:spPr>
          <a:xfrm>
            <a:off x="5257800" y="4343400"/>
            <a:ext cx="33526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’s not right, obvious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del space normal maps work only if the polygon they are applied to is facing same way as polygon used to generate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ed new method that compensates for wall facing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angent Spa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457520" cy="457200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>
            <a:off x="380880" y="3809880"/>
            <a:ext cx="36576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 actual tangent space normal 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ormals (X,Y,Z) in the map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relative to a special coordinate system called “tangent space”: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X direction defined by +S vecto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Y direction defined by +T vecto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Z direction defined by surface 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01:15:46Z</dcterms:created>
  <dc:creator>Julio Gonzales</dc:creator>
  <dc:description/>
  <dc:language>en-US</dc:language>
  <cp:lastModifiedBy>Josh Yelon</cp:lastModifiedBy>
  <dcterms:modified xsi:type="dcterms:W3CDTF">2005-03-23T21:42:03Z</dcterms:modified>
  <cp:revision>12</cp:revision>
  <dc:subject/>
  <dc:title>Bump Mapping</dc:title>
</cp:coreProperties>
</file>