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7CC9-A5D1-43D3-ACEE-0C08210F8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F34A-2EBE-4A15-ACF4-0944517CA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65B1-E0B1-4837-A6AC-E90201CC8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696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60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2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2696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60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B0F0-3E5B-48D6-8D3B-69F1FCFF0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5345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A069-24CB-4710-828A-AF159221F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2696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60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82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2696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60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93ED-FC79-44A4-B14C-B8BCABD7B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21AF-E04B-403B-8FBB-95DB23FBF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2037-0083-409A-9258-2D987316B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5345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6829-9B8E-4599-8F2D-A15117D3B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8C4F-2D4A-49CB-8BD8-91FE2D2AF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814C-8CBA-4EF7-942D-D7467A1CB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B127-B8BC-4183-BBBA-9AE4E2FDC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029200" y="6629040"/>
            <a:ext cx="4114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3B7B-1975-4C43-850F-059AA527C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ahoma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wm@cs.cmu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-1446120" y="1960560"/>
            <a:ext cx="3870000" cy="2666520"/>
            <a:chOff x="-1446120" y="1960560"/>
            <a:chExt cx="3870000" cy="266652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-1103040" y="2212200"/>
              <a:ext cx="30376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-1446120" y="1960560"/>
              <a:ext cx="1812600" cy="256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93280" y="2061000"/>
              <a:ext cx="930600" cy="256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ahoma"/>
              </a:rPr>
              <a:t>AI</a:t>
            </a:r>
            <a:br>
              <a:rPr sz="5400"/>
            </a:br>
            <a:br>
              <a:rPr sz="2400"/>
            </a:br>
            <a:r>
              <a:rPr b="0" lang="en-US" sz="36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09560" y="2087640"/>
          <a:ext cx="5781600" cy="4054320"/>
        </p:xfrm>
        <a:graphic>
          <a:graphicData uri="http://schemas.openxmlformats.org/drawingml/2006/table">
            <a:tbl>
              <a:tblPr/>
              <a:tblGrid>
                <a:gridCol w="5781600"/>
              </a:tblGrid>
              <a:tr h="29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rew W. Moo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negie Mellon Univers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/>
                        </a:rPr>
                        <a:t>awm@cs.cmu.ed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Questions welcome about anything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3320" y="365040"/>
            <a:ext cx="8937360" cy="606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D9D2-344C-4D21-979A-E69AFFA766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3320" y="139680"/>
            <a:ext cx="8915400" cy="423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5BDA-AD8E-4F79-8A72-DE1F0FD00E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928000" cy="529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8D82-EC99-41D8-8428-99AC9E8416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4800" y="157320"/>
            <a:ext cx="8483760" cy="636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7660-F27F-4F43-BD41-6497431B13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9440" y="119160"/>
            <a:ext cx="889956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89A5-CF53-4A09-88A2-8D5EBC4F99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080" y="1362240"/>
            <a:ext cx="8791560" cy="2259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81080" y="228600"/>
            <a:ext cx="47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nake-Oil  A.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46F7-3130-4B8D-9450-0E9B24CF4E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9160" y="135000"/>
            <a:ext cx="8880480" cy="3541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29240" y="3073320"/>
            <a:ext cx="3454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F824-0FC7-4AE6-841D-D145800C0C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9160" y="135000"/>
            <a:ext cx="8880480" cy="354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F10A-6325-4EC0-89F9-363F1BA6C7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7760" y="117360"/>
            <a:ext cx="8453520" cy="648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F368-7649-452A-B362-F46D5BA866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3840" y="135000"/>
            <a:ext cx="8862840" cy="557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81FE-EFEF-479C-8575-56C9AB1D62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E4CD-2A5D-4C79-A58B-D881700A2F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D6CC-D7B9-4BC1-A46D-87221A01EC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FAE3-6B3E-41F0-8D7B-3503FAD169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4840" y="5537160"/>
            <a:ext cx="2871720" cy="1023840"/>
          </a:xfrm>
          <a:prstGeom prst="wedgeRectCallout">
            <a:avLst>
              <a:gd name="adj1" fmla="val 68462"/>
              <a:gd name="adj2" fmla="val -63486"/>
            </a:avLst>
          </a:prstGeom>
          <a:solidFill>
            <a:srgbClr val="dcffb9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hese people have produced some fun questions to play wit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C154-7841-4FA8-81AD-CC1BBF91CA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4840" y="5537160"/>
            <a:ext cx="2871720" cy="1023840"/>
          </a:xfrm>
          <a:prstGeom prst="wedgeRectCallout">
            <a:avLst>
              <a:gd name="adj1" fmla="val 68462"/>
              <a:gd name="adj2" fmla="val -63486"/>
            </a:avLst>
          </a:prstGeom>
          <a:solidFill>
            <a:srgbClr val="dcffb9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hese people have produced some fun questions to play wit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0120" y="906480"/>
            <a:ext cx="1838520" cy="1023840"/>
          </a:xfrm>
          <a:prstGeom prst="wedgeRectCallout">
            <a:avLst>
              <a:gd name="adj1" fmla="val -72194"/>
              <a:gd name="adj2" fmla="val 34032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actually apply this profitab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A186-7B49-4B81-937B-15CECEC632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4840" y="5537160"/>
            <a:ext cx="2871720" cy="1023840"/>
          </a:xfrm>
          <a:prstGeom prst="wedgeRectCallout">
            <a:avLst>
              <a:gd name="adj1" fmla="val 68462"/>
              <a:gd name="adj2" fmla="val -63486"/>
            </a:avLst>
          </a:prstGeom>
          <a:solidFill>
            <a:srgbClr val="dcffb9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hese people have produced some fun questions to play wit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0120" y="906480"/>
            <a:ext cx="1838520" cy="1023840"/>
          </a:xfrm>
          <a:prstGeom prst="wedgeRectCallout">
            <a:avLst>
              <a:gd name="adj1" fmla="val -72194"/>
              <a:gd name="adj2" fmla="val 34032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actually apply this profitab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5840" y="2879640"/>
            <a:ext cx="1838160" cy="2894040"/>
          </a:xfrm>
          <a:prstGeom prst="wedgeRectCallout">
            <a:avLst>
              <a:gd name="adj1" fmla="val -71504"/>
              <a:gd name="adj2" fmla="val -20324"/>
            </a:avLst>
          </a:prstGeom>
          <a:solidFill>
            <a:srgbClr val="ffff99"/>
          </a:solidFill>
          <a:ln w="12600">
            <a:solidFill>
              <a:srgbClr val="ae8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e8512"/>
                </a:solidFill>
                <a:latin typeface="Arial"/>
              </a:rPr>
              <a:t>Revolution. 5 years from now. A new age dawns. Paradigm shift. The one thing they missed up to now i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0145-5C7E-40F1-8FB2-AA63FF9480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Why do AI research?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76080"/>
            <a:ext cx="85741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ld fashioned answer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Make programs that behave like the brain behav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75FF-DBC1-4BFD-9928-3167C8FE1A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Why do AI research?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76080"/>
            <a:ext cx="85741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w fashioned answer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Make programs that behave like the brain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should</a:t>
            </a: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 behav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E468-BEA0-44E3-AE2C-510F946945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22:52:10Z</dcterms:created>
  <dc:creator>awm</dc:creator>
  <dc:description/>
  <dc:language>en-US</dc:language>
  <cp:lastModifiedBy>awm</cp:lastModifiedBy>
  <dcterms:modified xsi:type="dcterms:W3CDTF">2004-01-12T18:02:38Z</dcterms:modified>
  <cp:revision>385</cp:revision>
  <dc:subject/>
  <dc:title>PowerPoint Presentation</dc:title>
</cp:coreProperties>
</file>